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8.jpeg" ContentType="image/jpeg"/>
  <Override PartName="/ppt/media/image5.png" ContentType="image/png"/>
  <Override PartName="/ppt/media/image10.png" ContentType="image/png"/>
  <Override PartName="/ppt/media/image7.wmf" ContentType="image/x-wmf"/>
  <Override PartName="/ppt/media/image4.png" ContentType="image/png"/>
  <Override PartName="/ppt/media/image12.wmf" ContentType="image/x-wmf"/>
  <Override PartName="/ppt/media/image13.png" ContentType="image/png"/>
  <Override PartName="/ppt/media/image11.png" ContentType="image/png"/>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7"/>
          </p:nvPr>
        </p:nvSpPr>
        <p:spPr>
          <a:xfrm>
            <a:off x="4145040" y="0"/>
            <a:ext cx="3170160" cy="479520"/>
          </a:xfrm>
          <a:prstGeom prst="rect">
            <a:avLst/>
          </a:prstGeom>
          <a:noFill/>
          <a:ln w="0">
            <a:noFill/>
          </a:ln>
        </p:spPr>
        <p:txBody>
          <a:bodyPr lIns="96480" rIns="96480" tIns="48240" bIns="48240" anchor="t">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8560" y="720360"/>
            <a:ext cx="4799160" cy="3598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2"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9121680"/>
            <a:ext cx="3170160" cy="47952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9"/>
          </p:nvPr>
        </p:nvSpPr>
        <p:spPr>
          <a:xfrm>
            <a:off x="4145040" y="9121680"/>
            <a:ext cx="3170160" cy="47952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9913EBD-FCBE-4D71-BF45-243C97F9D2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258920" y="720720"/>
            <a:ext cx="4799160" cy="3598920"/>
          </a:xfrm>
          <a:prstGeom prst="rect">
            <a:avLst/>
          </a:prstGeom>
          <a:ln w="0">
            <a:noFill/>
          </a:ln>
        </p:spPr>
      </p:sp>
      <p:sp>
        <p:nvSpPr>
          <p:cNvPr id="81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ms target monocultures, as monocultures are generally all vulnerable to an identical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can support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servers.  Minority population, but not considered high risk.  Yet 20,000 is enough to launch meaningful Denial of Service attacks, so they deserve more scrutiny.  Also, many are vulnerable to "Metaserver" worms, and very fast worms like Sapphire can still be successful with vulnerable populations of 20,000 or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ers.  IIS, apache as well.  Some home machines, some corporate, dedicated webservers.  Attractive tar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P programs, eg KaZaA, support potentially very fast worms.  KaZaA etc is widespread in home and university use, some corporate policy violators will put it in the corporate network, and it is very vulnerable to topological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sharing (windows CIFS), is nearly ubiquitous (and the basic service is on by default on Windows).  It is usually blocked at the firewall, however.  But it is a big target.  Getting 50,000,000 machines can produce an economically significant attack.  The same observation applies to the windows RPC (Remote Procedure Call) servic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258920" y="720720"/>
            <a:ext cx="4799160" cy="3598920"/>
          </a:xfrm>
          <a:prstGeom prst="rect">
            <a:avLst/>
          </a:prstGeom>
          <a:ln w="0">
            <a:noFill/>
          </a:ln>
        </p:spPr>
      </p:sp>
      <p:sp>
        <p:nvSpPr>
          <p:cNvPr id="81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gs will happen.  If we only rely on writing code without vulnerabilities, there will still be opportunities for worms.  Thus we need other defense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 don't work, as a single successful penetration is sufficient for a worm to spread through the entire "protected" network.  There are too many ways for worms to walk through a firewall and once they penetrate, they can scan everything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utomatic responses because of the speed of worms, which act as additional layers of def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re, Shannon, Voelker, and Savage, “Internet Quarantine, Requirements for Containing Self-Propagating Code”, Proceedings of the 2003 IEEE Infocom Conference, San Francisco, CA, April 2003, http://www.cs.ucsd.edu/~savage/papers/Infocom03.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simulation, analyzes the necessary response time to stop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258920" y="720720"/>
            <a:ext cx="4799160" cy="3598920"/>
          </a:xfrm>
          <a:prstGeom prst="rect">
            <a:avLst/>
          </a:prstGeom>
          <a:ln w="0">
            <a:noFill/>
          </a:ln>
        </p:spPr>
      </p:sp>
      <p:sp>
        <p:nvSpPr>
          <p:cNvPr id="81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utomatically defend against worms, we need automated detection, analysis, and response.  These systems also need to resist deliberate false positives and neg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esired piece of information from detection/analysis is a "Vulnerability signature", what the worm can infect, as this can define a response: block traffic to vulnerable machines.  An attack signature is even more useful, as one can then just block the infecting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in Moore et al’s analysis was a comparison between blocking based on signatures and based on knowing that a machine is infected.  They concluded that blocking based on infected machines is unfeasible for internet level blo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know whether current defenses are effective, because this enables us to determine if we need to increase the severity of response, so there is a feedback mechanism which can make a more graceful def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utomated detection/analysis needs to drive automated response, to prevent infections and to contain infections into sections of the net.  Response is probably easier, given vulnerability signatures and attack signatur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258920" y="720720"/>
            <a:ext cx="4799160" cy="3598920"/>
          </a:xfrm>
          <a:prstGeom prst="rect">
            <a:avLst/>
          </a:prstGeom>
          <a:ln w="0">
            <a:noFill/>
          </a:ln>
        </p:spPr>
      </p:sp>
      <p:sp>
        <p:nvSpPr>
          <p:cNvPr id="82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talk, in two sections, are on the different worm spreading techniques and a possibl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bserved previous spreading strategies and optimizations, and discovered new techniques not yet seen.  We need to understand how worms can find new targets in order to build defe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cover one detector which we have proposed and analyzed on paper (but not constructed) which looks like it has very good potential to automatically detect and classify worms.  this creates the illusion of a massively distributed system, while maintaining a single point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utomatic detectors need to trigger automatic responses, we must be very careful about what interlocking trust is required, and how attackers could trigger false alarms and false negativ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258920" y="720720"/>
            <a:ext cx="4799160" cy="3598920"/>
          </a:xfrm>
          <a:prstGeom prst="rect">
            <a:avLst/>
          </a:prstGeom>
          <a:ln w="0">
            <a:noFill/>
          </a:ln>
        </p:spPr>
      </p:sp>
      <p:sp>
        <p:nvSpPr>
          <p:cNvPr id="82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worms, new or old, must somehow discover new targets to infect.  If we can detect the act of spreading, that allows us to detect the worm, whether or not its been seen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if we can block this process, we will block the worm.  So we first must understand the target selection/target discovery strategies worms can employ.  Fortunately, there appear to be a very limited number of possible target selection strategies a worm can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258920" y="720720"/>
            <a:ext cx="4799160" cy="3598920"/>
          </a:xfrm>
          <a:prstGeom prst="rect">
            <a:avLst/>
          </a:prstGeom>
          <a:ln w="0">
            <a:noFill/>
          </a:ln>
        </p:spPr>
      </p:sp>
      <p:sp>
        <p:nvSpPr>
          <p:cNvPr id="82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is to somewhat visualize the strategies as we go into them in mor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observation is that an attacker can mix and match strategies, as well as vulnerabilities.  EG, use a hitlist to speed a scanning worm.  Use a passive attack to try to cross firewalls (which Nimda di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canning speed varies considerably whether or not a bandwidth-limited scanner is employed.  Scanners are slow if latency bound, very fast if bandwidth-boun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258920" y="720720"/>
            <a:ext cx="4799160" cy="3598920"/>
          </a:xfrm>
          <a:prstGeom prst="rect">
            <a:avLst/>
          </a:prstGeom>
          <a:ln w="0">
            <a:noFill/>
          </a:ln>
        </p:spPr>
      </p:sp>
      <p:sp>
        <p:nvSpPr>
          <p:cNvPr id="82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major techniques used to understand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worms offer good examples of what has been done, and can be used to calibrate simulations and mod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modeling works well for scanning, hitlists (pregenerated target-lists), and some topological worms.  It doesn't work well for evaluating other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s are highly useful.  I built my simulator a couple weeks after Code Red to explore some techniques.  I needed to use a block cipher because I want a pseudo-random permutation, not a pseudo-random number, in order to efficiently map between the address space and the table to store the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258920" y="720720"/>
            <a:ext cx="4799160" cy="3598920"/>
          </a:xfrm>
          <a:prstGeom prst="rect">
            <a:avLst/>
          </a:prstGeom>
          <a:ln w="0">
            <a:noFill/>
          </a:ln>
        </p:spPr>
      </p:sp>
      <p:sp>
        <p:nvSpPr>
          <p:cNvPr id="82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nning is probably the most ubiquitous: it is easy to implement and generic.  It's simply repeating forever and trying to infect the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is simply the expected number of new targets found per unit time, which depends on the address space size, the number of vulnerable machines, and the scanning rate.  Increase the scan rate, OR the number of vulnerable machines, and the worm speed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the fraction of the vulnerable population in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is simply an offset from the integr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generic IPv6 scanning is unproductive (the address space is too large) but may still be productive in internal networks (which probably will clump) and possibly within high-density clumps on the general interne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258920" y="720720"/>
            <a:ext cx="4799160" cy="3598920"/>
          </a:xfrm>
          <a:prstGeom prst="rect">
            <a:avLst/>
          </a:prstGeom>
          <a:ln w="0">
            <a:noFill/>
          </a:ln>
        </p:spPr>
      </p:sp>
      <p:sp>
        <p:nvSpPr>
          <p:cNvPr id="83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subnet scanning proved incredibly effective with Code Red II and Nimda, as it converted a single penetration into a company wide epidemic.  This is highly effective, and one of the main reasons why firewalls offer very little worm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on of /24s in scalper and slapper improve scanning and reduce the routing-related costs of each scan.  Looking at Sapphire, its a needless "optimization".  But preferentially (rather than scalper/slapper's exclusive selection) scanning more populated addresses is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utation scanning is original and not seen yet, it is detailed in the “0wn” paper.  IT creates a distributed scanner without full cooperation, just self-coord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width limited scanners is an obvious optimization, as opposed to using Connect().  Also discussed somewhat in the “0wn” paper, but really is demonstrated by Sapphi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258920" y="720720"/>
            <a:ext cx="4799160" cy="3598920"/>
          </a:xfrm>
          <a:prstGeom prst="rect">
            <a:avLst/>
          </a:prstGeom>
          <a:ln w="0">
            <a:noFill/>
          </a:ln>
        </p:spPr>
      </p:sp>
      <p:sp>
        <p:nvSpPr>
          <p:cNvPr id="83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pphire didn't infect significantly more machines than Code Red, if anything it infected substantially less.  Nevertheless, code red was nearly two orders of magnitude slower than Sapphire, with the population doubling approximately every 40 minutes (37 minutes is our best esti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Red and previous TCP worms have always used one or more threads, with each thread trying to connect() to individual machines, and, if successful, infecting it.  Thus any given thread is limited by the network latency: the time to receive a response (positive or negative) or for the connect call to timeout.  Even with several hundred threads, the worm is still limited by the la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pphire, on the other hand, since its scan also infects, never waits for a response.  It simply sends out packets at line rate.  So obviously it scans the net, especially before saturation effects occur, much faster than Cod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andwidth-limited scanners change scanning from being just "fast" to "very fast", enabling &lt;15 minute spread tim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258920" y="720720"/>
            <a:ext cx="4799160" cy="3598920"/>
          </a:xfrm>
          <a:prstGeom prst="rect">
            <a:avLst/>
          </a:prstGeom>
          <a:ln w="0">
            <a:noFill/>
          </a:ln>
        </p:spPr>
      </p:sp>
      <p:sp>
        <p:nvSpPr>
          <p:cNvPr id="79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  Computer worms, autonomous programs which can spread through a computer network, represent a substantial threat to our computing infrastructure.  With the release of Sapphire/Slammer, very fast computer worms are now a real, not theoretical threat.  Such worms easily outpace human defenses.  Any robust defense will require automatic detection, analysis, and response mech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these defenses, we first must understand the strategies attackers could employ.  Fortunately, there seem to be only a few mechanisms which worms can use to find new targets: random selection, external, pregenerated, and internal target lists, and passive techniques.  Some of these techniques have been used before, while others represent novel strategies.  Understanding these techniques, it becomes possible to construct detectors, analysis tools, and response mechanisms.  We then discuss in detail one of our proposed detector/analysis system, wormholes and a honeyfarm.  This detector would be highly sensitive to worm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258920" y="720720"/>
            <a:ext cx="4799160" cy="3598920"/>
          </a:xfrm>
          <a:prstGeom prst="rect">
            <a:avLst/>
          </a:prstGeom>
          <a:ln w="0">
            <a:noFill/>
          </a:ln>
        </p:spPr>
      </p:sp>
      <p:sp>
        <p:nvSpPr>
          <p:cNvPr id="83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animation of metaserver protocol.  Metaserver term first used/created by ERic Mehlhaff for Netrek, for a server which acts as a guide to other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m can use a metaserver to get one or more vulnerable servers to infect.  This is an original strategy, we haven’t seen it in practice.  But we need to understand this strategy to build defenses in advance, as it does present a potential anomaly at the metaserver.  Metaservers are quite common in practice, as many multiplayer games, google, and Windows uses metaserve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258920" y="720720"/>
            <a:ext cx="4799160" cy="3598920"/>
          </a:xfrm>
          <a:prstGeom prst="rect">
            <a:avLst/>
          </a:prstGeom>
          <a:ln w="0">
            <a:noFill/>
          </a:ln>
        </p:spPr>
      </p:sp>
      <p:sp>
        <p:nvSpPr>
          <p:cNvPr id="83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aserver acceleration simulation:  Each new worm queries a metaserver to find ONE potential victim, and then scans normally.  This victim is randomly chosen from only 1/3 of the vulnerable population.  300,000 vulnerable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uld be a “code red” style worm (10 scans/second) which can do a google query at the start, to find ONE vulnerable machine.  That alone drastically changes the spread rate of the worm.  If it discovers 2 vulnerable machines in the process, the speed is increased even more, as now the metaserver portion grows on the exponential/logistic graph instead of lin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e observation is critical, as these systems are not generally written with high security in mind, as they would seem to be too small to worry about.  But a metaserver attack enables a large, fast compromise of all game servers listed in the matchmaking/metaserv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258920" y="720720"/>
            <a:ext cx="4799160" cy="3598920"/>
          </a:xfrm>
          <a:prstGeom prst="rect">
            <a:avLst/>
          </a:prstGeom>
          <a:ln w="0">
            <a:noFill/>
          </a:ln>
        </p:spPr>
      </p:sp>
      <p:sp>
        <p:nvSpPr>
          <p:cNvPr id="83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rategy which we haven’t seen yet is using a pregenerated list, namely  generating (or stealing) a list of probably vulnerable machines in advance and using it to seed the initial spread by having the worm either "divide and conquer" through the list (faster) or linearly attacking the list in order (easier).  This was part of my initial "Warhol" proposal to accelerate a scanning worm to get &lt;15 minute infection times.  Stuart extended the observation that a complete hitlist of the internet can infect all machines in &lt;1 min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useful use is a small hitlist to skip the initial stages of the worm's growth.  This graph is for a scanning worm with the addition of a hitlist, 300,000 victim machines, 10 scans/second, based on the math.  A hitlist effectively shifts the graph to the left when accelerating a scanning worm. It doesn't change the curve of the graph, but acts to shift it to the left, offering a substantial speedup in total.  This offers substantial gains without needing a nearly complete hit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 in the "0wn" paper many ways an attacker can generate the hitlist with fairly low ri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not seen a hitlist used in practice.  As far as I know, all previous "Someone is scanning for a hitlist" alarms have been related to conventional human intruder activit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258920" y="720720"/>
            <a:ext cx="4799160" cy="3598920"/>
          </a:xfrm>
          <a:prstGeom prst="rect">
            <a:avLst/>
          </a:prstGeom>
          <a:ln w="0">
            <a:noFill/>
          </a:ln>
        </p:spPr>
      </p:sp>
      <p:sp>
        <p:nvSpPr>
          <p:cNvPr id="84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logical worms are particularly fast, originally used in the Morris worm.  In a topological worm, the worm simply uses local information to find new tar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can be very fast, depending on what the topology involved looks like.  The Morris worm was a topological worm, as the Internet was too sparse and slow for scanning to work</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258920" y="720720"/>
            <a:ext cx="4799160" cy="3598920"/>
          </a:xfrm>
          <a:prstGeom prst="rect">
            <a:avLst/>
          </a:prstGeom>
          <a:ln w="0">
            <a:noFill/>
          </a:ln>
        </p:spPr>
      </p:sp>
      <p:sp>
        <p:nvSpPr>
          <p:cNvPr id="84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 topological worm depends on the connectivity in the network, the longest shortest-path from the initial point of infection.  Thus it can be very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for a power-law or similar enough graph (where there are numerous supernodes, which we believe KaZaA to be like) are very fast: hundreds or even tens of timesteps.  If ~1 second/step, such worms can be incredibly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Chord (Robert Morris's "ring with fingers" structure) has lg(n) time to infect all nodes, as the worm follows the finger poi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a "vaguely Chord-ish" network, using one forward pointer and one finger.  Its very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If, in a peer-to-peer network, one can find or reach an arbitrary datum in expected lg(n) time and there is a fixed (constant) maximum amount of replication, then one can create a worm which would infect the P2P network in O(lg(n)) time.  No proof yet, this is just a hun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258920" y="720720"/>
            <a:ext cx="4799160" cy="3598920"/>
          </a:xfrm>
          <a:prstGeom prst="rect">
            <a:avLst/>
          </a:prstGeom>
          <a:ln w="0">
            <a:noFill/>
          </a:ln>
        </p:spPr>
      </p:sp>
      <p:sp>
        <p:nvSpPr>
          <p:cNvPr id="84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ive worms DON'T actively look for targets, instead they wait for target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lean was written and posted (with deliberate flaws) to bugtraq, but not released in the wild.  It was a passive anti-worm to cod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mda used a passive attack (to an IE exploit) to try to cross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contagion strategy (which KaZaA may be vulnerable to) is a passive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passive worms is highly variable, it depends on the traffic they are using to spread.  But they are very stealthy as they don't do active, only reactive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258920" y="720720"/>
            <a:ext cx="4799160" cy="3598920"/>
          </a:xfrm>
          <a:prstGeom prst="rect">
            <a:avLst/>
          </a:prstGeom>
          <a:ln w="0">
            <a:noFill/>
          </a:ln>
        </p:spPr>
      </p:sp>
      <p:sp>
        <p:nvSpPr>
          <p:cNvPr id="84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understood the offense, can we build a defense?  Some strategies will produce obvious side effects, and others may have effects we don't yet understand.  But at least by understanding the strategies, we can start to think about/detect side effects, and start working on detectors, analysis tools, and response mechanism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258920" y="720720"/>
            <a:ext cx="4799160" cy="3598920"/>
          </a:xfrm>
          <a:prstGeom prst="rect">
            <a:avLst/>
          </a:prstGeom>
          <a:ln w="0">
            <a:noFill/>
          </a:ln>
        </p:spPr>
      </p:sp>
      <p:sp>
        <p:nvSpPr>
          <p:cNvPr id="84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ow time to consider possible detectors.  One possible detector is a "honeypot", a machine who's purpose is to be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pots are machines which are deliberately designed to be compromised.  There is a considerable amount of information and work done on Honeypots available from the Honeynet project (www.honeynet.org).  Also, Niels Provos has </a:t>
            </a:r>
            <a:r>
              <a:rPr b="1" lang="en-US" sz="1200" spc="-1" strike="noStrike">
                <a:solidFill>
                  <a:srgbClr val="000000"/>
                </a:solidFill>
                <a:latin typeface="Times New Roman"/>
              </a:rPr>
              <a:t>honeyd</a:t>
            </a:r>
            <a:r>
              <a:rPr b="0" lang="en-US" sz="1200" spc="-1" strike="noStrike">
                <a:solidFill>
                  <a:srgbClr val="000000"/>
                </a:solidFill>
                <a:latin typeface="Times New Roman"/>
              </a:rPr>
              <a:t>, a nice little daemon for creating the illusion of a large number of honeypots on a singl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ty after M machines are infected, V vulnerable population, NONdetect is V-k/v^M.  So probability of detection is simply 1-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with even a few hundred vulnerable honeypots, this ends up being highly sensitive.  Since scanning worms “start slow” you want such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easier than host-based IDS for two reasons:  First, there is only generated background.  All activity is, by definition, either synthetic or abnormal.  Secondly, scanning worms and similar traffic produce really significant anomalies in a honey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neypot detected the scalper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ust issues prevent us from just using a network of honeypots as a detector, as worm detectors need to drive automated response mechanism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258920" y="720720"/>
            <a:ext cx="4799160" cy="3598920"/>
          </a:xfrm>
          <a:prstGeom prst="rect">
            <a:avLst/>
          </a:prstGeom>
          <a:ln w="0">
            <a:noFill/>
          </a:ln>
        </p:spPr>
      </p:sp>
      <p:sp>
        <p:nvSpPr>
          <p:cNvPr id="85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sire hundreds or thousands of "obscured location" honeypots.  A single location is a known/knowable entity, so a worm author could walk around it and to increase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t the same notion, we don't want thousands of honeypots, as for detection purposes, each honeypot has to be able to raise an alarm.  Also, there is a lot of intelligence/administration cost when creating/using honeypots, so we want to gain the advantage of centralized admin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can we separate honeypots from the endpoints, in order to gain what we desir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258920" y="720720"/>
            <a:ext cx="4799160" cy="3598920"/>
          </a:xfrm>
          <a:prstGeom prst="rect">
            <a:avLst/>
          </a:prstGeom>
          <a:ln w="0">
            <a:noFill/>
          </a:ln>
        </p:spPr>
      </p:sp>
      <p:sp>
        <p:nvSpPr>
          <p:cNvPr id="85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sulting split.  The endpoints, “Wormholes”, are traffic tunnels.  The honeyfarm itself uses virtual machine techniques so it doesn’t need to create a honeypot for each endpoint.  The honeyfarm needs to use VM techniques simply because of the number of wormholes and you need to create images on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on virtual honeypots, see the honeynet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258920" y="720720"/>
            <a:ext cx="4799160" cy="3598920"/>
          </a:xfrm>
          <a:prstGeom prst="rect">
            <a:avLst/>
          </a:prstGeom>
          <a:ln w="0">
            <a:noFill/>
          </a:ln>
        </p:spPr>
      </p:sp>
      <p:sp>
        <p:nvSpPr>
          <p:cNvPr id="80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 has been sponsored by DARPA, under Contract N66001-00-C-8045.  The general worm work has been performed in association with Stuart Staniford of Silicon Defense, Vern Paxson of ICIR, and Robert Cunningham of MIT Lincol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pphire analysis was conduced with David Moore (CAIDA &amp; UCSD), Vern Paxson (ICIR &amp; LBNL) Stefan Savage (UCSD), Colleen Shannon (CAIDA), and Stuart Staniford (Silicon Def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58920" y="720720"/>
            <a:ext cx="4799160" cy="3598920"/>
          </a:xfrm>
          <a:prstGeom prst="rect">
            <a:avLst/>
          </a:prstGeom>
          <a:ln w="0">
            <a:noFill/>
          </a:ln>
        </p:spPr>
      </p:sp>
      <p:sp>
        <p:nvSpPr>
          <p:cNvPr id="85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the wormholes is to design traffic tunnels that people will depl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 DNS requests can be generated to local DNS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mhole CAN forward requests from the honeyfarm out, to prevent “phone home” based detection strategies.  But it can’t forward requests to the local network, allowing it to be deployed more safely.  The goal is to build devices which the deployers can trust, but the Honeyfarm does not ha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nctionality is simple, we can run on low cost, commodity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ight want to also route entire address ranges, although such address ranges, although sensitive, represent more valuable “secrets” from an attacker’s viewpoint, so they can't be relied on as heav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is random DS9 screen capture, found on the ne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58920" y="720720"/>
            <a:ext cx="4799160" cy="3598920"/>
          </a:xfrm>
          <a:prstGeom prst="rect">
            <a:avLst/>
          </a:prstGeom>
          <a:ln w="0">
            <a:noFill/>
          </a:ln>
        </p:spPr>
      </p:sp>
      <p:sp>
        <p:nvSpPr>
          <p:cNvPr id="85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neyfarm needs to use virtual machine honeypots, as otherwise it would require too many resources.  The goal is to detect behaviors in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we need to have images almost ready to go, they need to be reconfigured and connected when traffic is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onitor the traffic to serve as 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258920" y="720720"/>
            <a:ext cx="4799160" cy="3598920"/>
          </a:xfrm>
          <a:prstGeom prst="rect">
            <a:avLst/>
          </a:prstGeom>
          <a:ln w="0">
            <a:noFill/>
          </a:ln>
        </p:spPr>
      </p:sp>
      <p:sp>
        <p:nvSpPr>
          <p:cNvPr id="85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one limitation:  Can only detect worms which can infect the VM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te capabilities based on what other VM image the captured worm can succeed in infec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ulnerability signature” could be used by response mechanisms to block all traffic to vulnerable machines, without affecting immune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ing overtly malicious behavior is useful secondary information, but not the primary objectiv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258920" y="720720"/>
            <a:ext cx="4799160" cy="3598920"/>
          </a:xfrm>
          <a:prstGeom prst="rect">
            <a:avLst/>
          </a:prstGeom>
          <a:ln w="0">
            <a:noFill/>
          </a:ln>
        </p:spPr>
      </p:sp>
      <p:sp>
        <p:nvSpPr>
          <p:cNvPr id="86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uilding distributed systems and systems which trigger automatic responses, we need to be very concerned about trus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mhole deployers trust the wormholes, NOT the honey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neyfarm doesn’t trust the wormhole de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ing systems either trust the honeyfarm, or trust 2 independent honeyfarms to both raise an al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is taken from http://www.sonypictures.com/movies/matilda/assets/car.jpg ), copyright so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258920" y="720720"/>
            <a:ext cx="4799160" cy="3598920"/>
          </a:xfrm>
          <a:prstGeom prst="rect">
            <a:avLst/>
          </a:prstGeom>
          <a:ln w="0">
            <a:noFill/>
          </a:ln>
        </p:spPr>
      </p:sp>
      <p:sp>
        <p:nvSpPr>
          <p:cNvPr id="86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limitation is the last of the false negatives:  We can’t detect worms which can’t infect the honeyfarm’s VM images.  This isn’t such a big deal, as we are worried about the large monocultures, as they are the most vulnerabl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258920" y="720720"/>
            <a:ext cx="4799160" cy="3598920"/>
          </a:xfrm>
          <a:prstGeom prst="rect">
            <a:avLst/>
          </a:prstGeom>
          <a:ln w="0">
            <a:noFill/>
          </a:ln>
        </p:spPr>
      </p:sp>
      <p:sp>
        <p:nvSpPr>
          <p:cNvPr id="86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Level detector/responders play very well to my other interest, FPGA, Field Programmable Gate Arrays, architectures and applications.  FPGAs are effectively reprogrammable custom circuits, with current ones (Xilinx Virtex 2 pro) including multiple Gb serial links, the FPGA itself, and a micro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way to build something which is flexible, operates on Gb links, and doesn’t cost a fortune in large quantity, is to use such FPGAs.  But FPGAs have vastly different programming models, and are good at very different tasks when compared to a microprocessor.  Thus a system composed of FPGA “Smart” network switches requires new algorithms and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goal is to get away from the Firewall model of network security, for corporate networks.  Instead, the entire network is hard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ed analysis system is necessary to combine multiple sensors (the Honeyfarm is just one possible sensor) to get a good picture of how a worm is operating and whether a given defense i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258920" y="720720"/>
            <a:ext cx="4799160" cy="3598920"/>
          </a:xfrm>
          <a:prstGeom prst="rect">
            <a:avLst/>
          </a:prstGeom>
          <a:ln w="0">
            <a:noFill/>
          </a:ln>
        </p:spPr>
      </p:sp>
      <p:sp>
        <p:nvSpPr>
          <p:cNvPr id="86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ssue: Why would someone put a wormhole on their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mhole hardware probably needs to be subsidized by the Honeyfarm operator, but is still very low cost.  Embedded processor/mb combinations (EG, Via Epia M motherboard) are a nice platform for such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258920" y="720720"/>
            <a:ext cx="4799160" cy="3598920"/>
          </a:xfrm>
          <a:prstGeom prst="rect">
            <a:avLst/>
          </a:prstGeom>
          <a:ln w="0">
            <a:noFill/>
          </a:ln>
        </p:spPr>
      </p:sp>
      <p:sp>
        <p:nvSpPr>
          <p:cNvPr id="86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understand/test the system as it is constructe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258920" y="720720"/>
            <a:ext cx="4799160" cy="3598920"/>
          </a:xfrm>
          <a:prstGeom prst="rect">
            <a:avLst/>
          </a:prstGeom>
          <a:ln w="0">
            <a:noFill/>
          </a:ln>
        </p:spPr>
      </p:sp>
      <p:sp>
        <p:nvSpPr>
          <p:cNvPr id="87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detection, we’ve also been considering response mechanisms.  The easiest is “remove infected machines from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e combination of “only protects others” and “widespread adoption required” that prevent it from being useful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widespread, international legal mandates, such devices can never be deployed.  EG, egress filtering, since it is not mandated and only really protects the rest of the internet, is only sparsely deplo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on paper/tech report is available at http://www.hpl.hp.com/techreports/2002/HPL-2002-172.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combines one scan detector with a quarantine mechanism running on the local machi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258920" y="720720"/>
            <a:ext cx="4799160" cy="3598920"/>
          </a:xfrm>
          <a:prstGeom prst="rect">
            <a:avLst/>
          </a:prstGeom>
          <a:ln w="0">
            <a:noFill/>
          </a:ln>
        </p:spPr>
      </p:sp>
      <p:sp>
        <p:nvSpPr>
          <p:cNvPr id="80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January 2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this talk contains a considerable amount of motivation as to why fast Internet worms are a potential threat.  They are now a real th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30 minutes of Sapphire’s spread, we recorded nearly 75,000 unique infections.  Most of these infections actually occurred within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more for effect rather than technical detail: We couldn’t determine a detailed location for all infections, and the diameter of each circle is proportional to the lg() of the number of infections, underrepresenting larger infections.   Nevertheless, it gives a good feel for where Sapphire sp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onitored the spread using several “Network Telescopes”, address ranges where we had sampled or complete packet traces at single sources.  We also used the D-shield distributed intrusion detection system to determine IPs of infected machines, but we couldn’t use this data for calculating the scanning rat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258920" y="720720"/>
            <a:ext cx="4799160" cy="3598920"/>
          </a:xfrm>
          <a:prstGeom prst="rect">
            <a:avLst/>
          </a:prstGeom>
          <a:ln w="0">
            <a:noFill/>
          </a:ln>
        </p:spPr>
      </p:sp>
      <p:sp>
        <p:nvSpPr>
          <p:cNvPr id="87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onclusion as Moore et al (they modeled a different quarantine/containment mechanism of universal removal of compromised machines, and noticed how quickly machines needed to be detected), different reaso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observation:  A machine behind a perfect quarantine device still ends up infected, but can’t spread the worm.  Thus 25% coverage is equivalent to removing 25% of the vulnerable population from the net.  Yet as it offers no benefit for the infected machines, you can’t get widespread deployment on the Interne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258920" y="720720"/>
            <a:ext cx="4799160" cy="3598920"/>
          </a:xfrm>
          <a:prstGeom prst="rect">
            <a:avLst/>
          </a:prstGeom>
          <a:ln w="0">
            <a:noFill/>
          </a:ln>
        </p:spPr>
      </p:sp>
      <p:sp>
        <p:nvSpPr>
          <p:cNvPr id="87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 key is to exclude a worm from ENTERING an area of the network.  And when the exclusion technique fails, you increase the severity of the exclusion technique as you only sacrifice a small part of the network in the process, which requires the small pie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aturally drives the “Smarter Switches” model of detection/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258920" y="720720"/>
            <a:ext cx="4799160" cy="3598920"/>
          </a:xfrm>
          <a:prstGeom prst="rect">
            <a:avLst/>
          </a:prstGeom>
          <a:ln w="0">
            <a:noFill/>
          </a:ln>
        </p:spPr>
      </p:sp>
      <p:sp>
        <p:nvSpPr>
          <p:cNvPr id="87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network anomalies which the different strategies should cre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server worms are of particular note, as they should produce noticeably abnormal queries from the metaserver’s viewpoint (eg, how often do known http servers access Goo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258920" y="720720"/>
            <a:ext cx="4799160" cy="3598920"/>
          </a:xfrm>
          <a:prstGeom prst="rect">
            <a:avLst/>
          </a:prstGeom>
          <a:ln w="0">
            <a:noFill/>
          </a:ln>
        </p:spPr>
      </p:sp>
      <p:sp>
        <p:nvSpPr>
          <p:cNvPr id="87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ly, FPGAs are my other area of research.</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258920" y="720720"/>
            <a:ext cx="4799160" cy="3598920"/>
          </a:xfrm>
          <a:prstGeom prst="rect">
            <a:avLst/>
          </a:prstGeom>
          <a:ln w="0">
            <a:noFill/>
          </a:ln>
        </p:spPr>
      </p:sp>
      <p:sp>
        <p:nvSpPr>
          <p:cNvPr id="88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pphire was a single packet, UDP worm attacking Microsoft SQL 2000 and MSDE 2000 (Microsoft SQL Server Desktop Engine).  It attacked a vulnerability in the section listening to UDP port 1434 as part of the protocol to negotiate further communication.  The payload was 376 bytes, for a total packet size of 404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buffer overflow and portions of the API and recovery code were taken from a previously published exploit and the vulnerability itself was known for over six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as no rate limiting on the inner loop, Sapphire will send packets as fast as the OS and network will allow.  Thus it will quickly saturate the available bandwidth under many condition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258920" y="720720"/>
            <a:ext cx="4799160" cy="3598920"/>
          </a:xfrm>
          <a:prstGeom prst="rect">
            <a:avLst/>
          </a:prstGeom>
          <a:ln w="0">
            <a:noFill/>
          </a:ln>
        </p:spPr>
      </p:sp>
      <p:sp>
        <p:nvSpPr>
          <p:cNvPr id="88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pphire, in the first 30-40 seconds after we first spotted it, behaves very much like a scanning worm, and similar fits can be applied to our other datasets.  (The small amount above 0 is due to a separate, probably unrelated scan occurring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pphire, at least for a few generations, matches the RCS model very well.  The doubling time is about 8 seconds, and we probably failed to capture the first couple of generations in ou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mportantly, our data shows that the author probably did not use a significant hitlist (a pregenerated list of targets) or other acceleration techniques which would distort the first few seconds of the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258920" y="720720"/>
            <a:ext cx="4799160" cy="3598920"/>
          </a:xfrm>
          <a:prstGeom prst="rect">
            <a:avLst/>
          </a:prstGeom>
          <a:ln w="0">
            <a:noFill/>
          </a:ln>
        </p:spPr>
      </p:sp>
      <p:sp>
        <p:nvSpPr>
          <p:cNvPr id="884"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consideration is whether Sapphire's speed is an isolated event.  Although its speed may or may not have been an accidental property (and we will never know unless the author is found), any future single packet UDP worm, unless rate limited or broken, will demonstrate similar scanning rates and therefore similar propagat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ny reasonably small (&lt;100k) worm which uses TCP can spread this fast as well, if the worm can craft TCP SYNs or uses non-blocking connection routines capable of supporting many outstanding request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258920" y="720720"/>
            <a:ext cx="4799160" cy="3598920"/>
          </a:xfrm>
          <a:prstGeom prst="rect">
            <a:avLst/>
          </a:prstGeom>
          <a:ln w="0">
            <a:noFill/>
          </a:ln>
        </p:spPr>
      </p:sp>
      <p:sp>
        <p:nvSpPr>
          <p:cNvPr id="88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oon is from Megatokyo, by Fred Gallagher and Rodney Caston (www.megatokyo.com).  Have query about copyright permission outstanding.  If negative response, will remove this graphi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258920" y="720720"/>
            <a:ext cx="4799160" cy="3598920"/>
          </a:xfrm>
          <a:prstGeom prst="rect">
            <a:avLst/>
          </a:prstGeom>
          <a:ln w="0">
            <a:noFill/>
          </a:ln>
        </p:spPr>
      </p:sp>
      <p:sp>
        <p:nvSpPr>
          <p:cNvPr id="804"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mewhat surprising part is just how fast.  We start to see local links saturating in less than a minute (where Sapphire stops following the RCS model), and general internet scanning saturates at 3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size of our windows and the number of packets received, Sapphire's peak was over 55 million IPs/second, randomly chosen from the 2</a:t>
            </a:r>
            <a:r>
              <a:rPr b="0" lang="en-US" sz="1200" spc="-1" strike="noStrike" baseline="30000">
                <a:solidFill>
                  <a:srgbClr val="000000"/>
                </a:solidFill>
                <a:latin typeface="Times New Roman"/>
              </a:rPr>
              <a:t>32</a:t>
            </a:r>
            <a:r>
              <a:rPr b="0" lang="en-US" sz="1200" spc="-1" strike="noStrike">
                <a:solidFill>
                  <a:srgbClr val="000000"/>
                </a:solidFill>
                <a:latin typeface="Times New Roman"/>
              </a:rPr>
              <a:t> bit IP address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rate of 55 million packets per second, this easily saturates the bulk of the Internet in less than 10 minutes.  The most significant exceptions are large addresses connected by low-bandwidth links, as these connections will not receive all intended sca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258920" y="720720"/>
            <a:ext cx="4799160" cy="3598920"/>
          </a:xfrm>
          <a:prstGeom prst="rect">
            <a:avLst/>
          </a:prstGeom>
          <a:ln w="0">
            <a:noFill/>
          </a:ln>
        </p:spPr>
      </p:sp>
      <p:sp>
        <p:nvSpPr>
          <p:cNvPr id="80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worms are self-propagating network programs, and usually considered extremely hostile.  They exploit vulnerabilities in order to spread to other machines, which propagate the infection further.  Vulnerabilities can exist in policies, not just as bugs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It is the self-propagation which distinguishes worms from conventional attacker tools, and which lends a very fast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lk, and the work on defenses, focuses on autonomous worms.  Mail-Worms such as Klez require human intervention, and therefore propagate much more slowly.  However, mailworm techniques can be effective to cross firewalls as part of a larger autonomous wor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258920" y="720720"/>
            <a:ext cx="4799160" cy="3598920"/>
          </a:xfrm>
          <a:prstGeom prst="rect">
            <a:avLst/>
          </a:prstGeom>
          <a:ln w="0">
            <a:noFill/>
          </a:ln>
        </p:spPr>
      </p:sp>
      <p:sp>
        <p:nvSpPr>
          <p:cNvPr id="80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ow to 0wn the Internet in your Spare Time” is available at http://www.cs.berkeley.edu/~nweaver/cdc.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Moore’s analysis is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aida.org/analysis/security/co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ller pape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aida.org/outreach/papers/2002/codered/codered.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load: The additional code carried in the worm.  Although propagation can be disruptive, it is the payload which will cause the most damage.  We have seen most of these payloads in various form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258920" y="720720"/>
            <a:ext cx="4799160" cy="3598920"/>
          </a:xfrm>
          <a:prstGeom prst="rect">
            <a:avLst/>
          </a:prstGeom>
          <a:ln w="0">
            <a:noFill/>
          </a:ln>
        </p:spPr>
      </p:sp>
      <p:sp>
        <p:nvSpPr>
          <p:cNvPr id="81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is the target selection strategy, which will be discuss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numerous other worms, but these are a good representative sample of major incidents.  I’ll refer to these elsewhere in the talk, you don’t need to memorize this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258920" y="720720"/>
            <a:ext cx="4799160" cy="3598920"/>
          </a:xfrm>
          <a:prstGeom prst="rect">
            <a:avLst/>
          </a:prstGeom>
          <a:ln w="0">
            <a:noFill/>
          </a:ln>
        </p:spPr>
      </p:sp>
      <p:sp>
        <p:nvSpPr>
          <p:cNvPr id="81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pper reused scalper's source code, but used a new exploit (OpenSSL vulnerability in apache Linux).  Scanning worms in particular are potentially very generic, allowing code reuse and therefore quick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per was 10 days from exploit post (on bugtraq) to release of the worm.  Scalper was limited in scope because of the exploit script posed (only freebsd apache, apache chunk vulnerability), which limited the targets it could find, but represents a disturbing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0-day” worm requires the attacker to discover the exploit first, but enables the worm to attack most or all computers running the vulnerable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5B6A6-7390-4F16-87C5-30B1791BA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072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F8C5F-8380-493C-B70B-166288119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90908-F9C8-443A-A7DB-AB3FE3C60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07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19807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19807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43293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43293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43293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BB94E-1239-43DD-AC1A-8313B96EA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5C338-8226-42DA-A465-D62B73C8B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800" y="1980720"/>
            <a:ext cx="777240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654DC-B541-4310-90C4-6C7821A82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61499-F3EB-4650-A534-A89CBD7E5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690EA-0EDA-4399-B40C-D392A0771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B6E15-B86A-4F3B-91D8-E65E97773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CC807-85A9-4D9C-BE88-4CDFD76EF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34899-B728-4AF8-AAC3-C639010B5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0720"/>
            <a:ext cx="777240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E68E-B7F0-44FE-91E6-03B968A07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E82C4-B7FF-48BE-98A6-F313B18DA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8C5B0-EC69-4465-96C5-419135D43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072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B52C2-CB13-4FFA-BCA8-9B2413011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5"/>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D2023-1098-4BE1-929B-C169E602A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07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3313800" y="19807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4"/>
          <p:cNvSpPr>
            <a:spLocks noGrp="1"/>
          </p:cNvSpPr>
          <p:nvPr>
            <p:ph/>
          </p:nvPr>
        </p:nvSpPr>
        <p:spPr>
          <a:xfrm>
            <a:off x="5941440" y="19807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5"/>
          <p:cNvSpPr>
            <a:spLocks noGrp="1"/>
          </p:cNvSpPr>
          <p:nvPr>
            <p:ph/>
          </p:nvPr>
        </p:nvSpPr>
        <p:spPr>
          <a:xfrm>
            <a:off x="685800" y="43293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6"/>
          <p:cNvSpPr>
            <a:spLocks noGrp="1"/>
          </p:cNvSpPr>
          <p:nvPr>
            <p:ph/>
          </p:nvPr>
        </p:nvSpPr>
        <p:spPr>
          <a:xfrm>
            <a:off x="3313800" y="43293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7"/>
          <p:cNvSpPr>
            <a:spLocks noGrp="1"/>
          </p:cNvSpPr>
          <p:nvPr>
            <p:ph/>
          </p:nvPr>
        </p:nvSpPr>
        <p:spPr>
          <a:xfrm>
            <a:off x="5941440" y="43293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007AF-150A-4F13-A188-47AC29903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209BA-C71F-4B13-85B2-7F395F12C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4B9FE-4135-4728-ADCA-F532886A9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5266C-1F14-4375-8EF5-91AEA9266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E712A-491F-423E-8957-F00ECEEBE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F0961-C66A-4578-96AD-7571C18F4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FC7A0-CFF8-4594-A917-CD8017ED2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C7704-648D-4912-A1E7-AE18304A5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552720"/>
            <a:ext cx="419076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ions Copyright 2002 Silicon Defens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457840" y="6553080"/>
            <a:ext cx="685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F5E4-D815-4B8F-A498-68BC74601A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1806480"/>
            <a:ext cx="9144000" cy="215640"/>
            <a:chOff x="0" y="1806480"/>
            <a:chExt cx="9144000" cy="215640"/>
          </a:xfrm>
        </p:grpSpPr>
        <p:sp>
          <p:nvSpPr>
            <p:cNvPr id="6" name=""/>
            <p:cNvSpPr/>
            <p:nvPr/>
          </p:nvSpPr>
          <p:spPr>
            <a:xfrm>
              <a:off x="0" y="1857240"/>
              <a:ext cx="9144000" cy="123840"/>
            </a:xfrm>
            <a:prstGeom prst="rect">
              <a:avLst/>
            </a:prstGeom>
            <a:gradFill rotWithShape="0">
              <a:gsLst>
                <a:gs pos="0">
                  <a:srgbClr val="ff3300"/>
                </a:gs>
                <a:gs pos="100000">
                  <a:srgbClr val="ffa26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35280" y="1806480"/>
              <a:ext cx="1758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How Many Ways to 0wn the Internet?</a:t>
              </a:r>
              <a:endParaRPr b="0" lang="en-US" sz="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2895120" y="655308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ions Copyright 2002 Silicon Defense</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8457840" y="6553080"/>
            <a:ext cx="685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AD51-F4F6-454D-B646-46D22DF7C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8" name=""/>
          <p:cNvGrpSpPr/>
          <p:nvPr/>
        </p:nvGrpSpPr>
        <p:grpSpPr>
          <a:xfrm>
            <a:off x="0" y="1806480"/>
            <a:ext cx="9144000" cy="215640"/>
            <a:chOff x="0" y="1806480"/>
            <a:chExt cx="9144000" cy="215640"/>
          </a:xfrm>
        </p:grpSpPr>
        <p:sp>
          <p:nvSpPr>
            <p:cNvPr id="49" name=""/>
            <p:cNvSpPr/>
            <p:nvPr/>
          </p:nvSpPr>
          <p:spPr>
            <a:xfrm>
              <a:off x="0" y="1857240"/>
              <a:ext cx="9144000" cy="123840"/>
            </a:xfrm>
            <a:prstGeom prst="rect">
              <a:avLst/>
            </a:prstGeom>
            <a:gradFill rotWithShape="0">
              <a:gsLst>
                <a:gs pos="0">
                  <a:srgbClr val="ff3300"/>
                </a:gs>
                <a:gs pos="100000">
                  <a:srgbClr val="ffa26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5280" y="1806480"/>
              <a:ext cx="1758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How Many Ways to 0wn the Internet?</a:t>
              </a:r>
              <a:endParaRPr b="0" lang="en-US" sz="800" spc="-1" strike="noStrike">
                <a:solidFill>
                  <a:srgbClr val="000000"/>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1981080"/>
            <a:ext cx="9144000" cy="4572000"/>
          </a:xfrm>
          <a:prstGeom prst="rect">
            <a:avLst/>
          </a:prstGeom>
          <a:ln w="0">
            <a:noFill/>
          </a:ln>
        </p:spPr>
      </p:pic>
      <p:sp>
        <p:nvSpPr>
          <p:cNvPr id="96" name="PlaceHolder 1"/>
          <p:cNvSpPr>
            <a:spLocks noGrp="1"/>
          </p:cNvSpPr>
          <p:nvPr>
            <p:ph type="title"/>
          </p:nvPr>
        </p:nvSpPr>
        <p:spPr>
          <a:xfrm>
            <a:off x="685800" y="3808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Many Ways to 0wn the Internet?</a:t>
            </a:r>
            <a:br>
              <a:rPr sz="3600"/>
            </a:br>
            <a:r>
              <a:rPr b="0" lang="en-US" sz="2800" spc="-1" strike="noStrike">
                <a:solidFill>
                  <a:srgbClr val="000000"/>
                </a:solidFill>
                <a:latin typeface="Times New Roman"/>
              </a:rPr>
              <a:t>Towards Viable Worm Defenses</a:t>
            </a:r>
            <a:endParaRPr b="0" lang="en-US" sz="2800" spc="-1" strike="noStrike">
              <a:solidFill>
                <a:srgbClr val="000000"/>
              </a:solidFill>
              <a:latin typeface="Times New Roman"/>
            </a:endParaRPr>
          </a:p>
        </p:txBody>
      </p:sp>
      <p:sp>
        <p:nvSpPr>
          <p:cNvPr id="3" name="PlaceHolder 2"/>
          <p:cNvSpPr>
            <a:spLocks noGrp="1"/>
          </p:cNvSpPr>
          <p:nvPr>
            <p:ph type="sldNum" idx="6"/>
          </p:nvPr>
        </p:nvSpPr>
        <p:spPr/>
        <p:txBody>
          <a:bodyPr/>
          <a:p>
            <a:fld id="{34D5A6E1-F2DF-4867-86B9-2CCE870C2B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Some Worm Ecologies</a:t>
            </a:r>
            <a:endParaRPr b="0" lang="en-US" sz="4400" spc="-1" strike="noStrike">
              <a:solidFill>
                <a:srgbClr val="000000"/>
              </a:solidFill>
              <a:latin typeface="Times New Roman"/>
            </a:endParaRPr>
          </a:p>
        </p:txBody>
      </p:sp>
      <p:grpSp>
        <p:nvGrpSpPr>
          <p:cNvPr id="205" name=""/>
          <p:cNvGrpSpPr/>
          <p:nvPr/>
        </p:nvGrpSpPr>
        <p:grpSpPr>
          <a:xfrm>
            <a:off x="1828800" y="5105520"/>
            <a:ext cx="609480" cy="685440"/>
            <a:chOff x="1828800" y="5105520"/>
            <a:chExt cx="609480" cy="685440"/>
          </a:xfrm>
        </p:grpSpPr>
        <p:sp>
          <p:nvSpPr>
            <p:cNvPr id="206" name=""/>
            <p:cNvSpPr/>
            <p:nvPr/>
          </p:nvSpPr>
          <p:spPr>
            <a:xfrm>
              <a:off x="1905120" y="5105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81080" y="518184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1828800" y="563832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8305920" y="3581280"/>
            <a:ext cx="609480" cy="685440"/>
            <a:chOff x="8305920" y="3581280"/>
            <a:chExt cx="609480" cy="685440"/>
          </a:xfrm>
        </p:grpSpPr>
        <p:sp>
          <p:nvSpPr>
            <p:cNvPr id="210" name=""/>
            <p:cNvSpPr/>
            <p:nvPr/>
          </p:nvSpPr>
          <p:spPr>
            <a:xfrm>
              <a:off x="8382240" y="35812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8458200" y="365760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8305920" y="41140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Cloud"/>
          <p:cNvSpPr/>
          <p:nvPr/>
        </p:nvSpPr>
        <p:spPr>
          <a:xfrm>
            <a:off x="2209680" y="2590920"/>
            <a:ext cx="2675160" cy="2743200"/>
          </a:xfrm>
          <a:prstGeom prst="pie">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nternet</a:t>
            </a:r>
            <a:endParaRPr b="0" lang="en-US" sz="2400" spc="-1" strike="noStrike">
              <a:solidFill>
                <a:srgbClr val="000000"/>
              </a:solidFill>
              <a:latin typeface="Times New Roman"/>
            </a:endParaRPr>
          </a:p>
        </p:txBody>
      </p:sp>
      <p:grpSp>
        <p:nvGrpSpPr>
          <p:cNvPr id="214" name=""/>
          <p:cNvGrpSpPr/>
          <p:nvPr/>
        </p:nvGrpSpPr>
        <p:grpSpPr>
          <a:xfrm>
            <a:off x="609480" y="2438280"/>
            <a:ext cx="1828800" cy="2285640"/>
            <a:chOff x="609480" y="2438280"/>
            <a:chExt cx="1828800" cy="2285640"/>
          </a:xfrm>
        </p:grpSpPr>
        <p:grpSp>
          <p:nvGrpSpPr>
            <p:cNvPr id="215" name=""/>
            <p:cNvGrpSpPr/>
            <p:nvPr/>
          </p:nvGrpSpPr>
          <p:grpSpPr>
            <a:xfrm>
              <a:off x="914400" y="3124080"/>
              <a:ext cx="609480" cy="685440"/>
              <a:chOff x="914400" y="3124080"/>
              <a:chExt cx="609480" cy="685440"/>
            </a:xfrm>
          </p:grpSpPr>
          <p:sp>
            <p:nvSpPr>
              <p:cNvPr id="216" name=""/>
              <p:cNvSpPr/>
              <p:nvPr/>
            </p:nvSpPr>
            <p:spPr>
              <a:xfrm>
                <a:off x="990720" y="31240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066680" y="320040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914400" y="36568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914400" y="4038480"/>
              <a:ext cx="609480" cy="685440"/>
              <a:chOff x="914400" y="4038480"/>
              <a:chExt cx="609480" cy="685440"/>
            </a:xfrm>
          </p:grpSpPr>
          <p:sp>
            <p:nvSpPr>
              <p:cNvPr id="220" name=""/>
              <p:cNvSpPr/>
              <p:nvPr/>
            </p:nvSpPr>
            <p:spPr>
              <a:xfrm>
                <a:off x="990720" y="40384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066680" y="411480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914400" y="45712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1447920" y="3352680"/>
              <a:ext cx="990360" cy="763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4" name=""/>
            <p:cNvSpPr/>
            <p:nvPr/>
          </p:nvSpPr>
          <p:spPr>
            <a:xfrm flipV="1">
              <a:off x="1447920" y="4114440"/>
              <a:ext cx="838080" cy="1522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9480" y="2438280"/>
              <a:ext cx="1169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s</a:t>
              </a:r>
              <a:endParaRPr b="0" lang="en-US" sz="2000" spc="-1" strike="noStrike">
                <a:solidFill>
                  <a:srgbClr val="000000"/>
                </a:solidFill>
                <a:latin typeface="Times New Roman"/>
              </a:endParaRPr>
            </a:p>
          </p:txBody>
        </p:sp>
      </p:grpSp>
      <p:grpSp>
        <p:nvGrpSpPr>
          <p:cNvPr id="226" name=""/>
          <p:cNvGrpSpPr/>
          <p:nvPr/>
        </p:nvGrpSpPr>
        <p:grpSpPr>
          <a:xfrm>
            <a:off x="6324480" y="3809880"/>
            <a:ext cx="609480" cy="685440"/>
            <a:chOff x="6324480" y="3809880"/>
            <a:chExt cx="609480" cy="685440"/>
          </a:xfrm>
        </p:grpSpPr>
        <p:sp>
          <p:nvSpPr>
            <p:cNvPr id="227" name=""/>
            <p:cNvSpPr/>
            <p:nvPr/>
          </p:nvSpPr>
          <p:spPr>
            <a:xfrm>
              <a:off x="6400800" y="3809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476760" y="388620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324480" y="43426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7391520" y="3809880"/>
            <a:ext cx="609480" cy="685440"/>
            <a:chOff x="7391520" y="3809880"/>
            <a:chExt cx="609480" cy="685440"/>
          </a:xfrm>
        </p:grpSpPr>
        <p:sp>
          <p:nvSpPr>
            <p:cNvPr id="231" name=""/>
            <p:cNvSpPr/>
            <p:nvPr/>
          </p:nvSpPr>
          <p:spPr>
            <a:xfrm>
              <a:off x="7467840" y="38098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543800" y="388620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391520" y="43426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flipV="1">
            <a:off x="4800600" y="3047760"/>
            <a:ext cx="1371600" cy="1522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2286000" y="4876560"/>
            <a:ext cx="228600" cy="228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029560" y="2209680"/>
            <a:ext cx="1028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ewall</a:t>
            </a:r>
            <a:endParaRPr b="0" lang="en-US" sz="2000" spc="-1" strike="noStrike">
              <a:solidFill>
                <a:srgbClr val="000000"/>
              </a:solidFill>
              <a:latin typeface="Times New Roman"/>
            </a:endParaRPr>
          </a:p>
        </p:txBody>
      </p:sp>
      <p:sp>
        <p:nvSpPr>
          <p:cNvPr id="237" name=""/>
          <p:cNvSpPr/>
          <p:nvPr/>
        </p:nvSpPr>
        <p:spPr>
          <a:xfrm>
            <a:off x="1446120" y="5715000"/>
            <a:ext cx="1384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servers</a:t>
            </a:r>
            <a:endParaRPr b="0" lang="en-US" sz="2000" spc="-1" strike="noStrike">
              <a:solidFill>
                <a:srgbClr val="000000"/>
              </a:solidFill>
              <a:latin typeface="Times New Roman"/>
            </a:endParaRPr>
          </a:p>
        </p:txBody>
      </p:sp>
      <p:sp>
        <p:nvSpPr>
          <p:cNvPr id="238" name="Cloud"/>
          <p:cNvSpPr/>
          <p:nvPr/>
        </p:nvSpPr>
        <p:spPr>
          <a:xfrm>
            <a:off x="6172200" y="2286000"/>
            <a:ext cx="2286000" cy="1219320"/>
          </a:xfrm>
          <a:prstGeom prst="pie">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porat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anet</a:t>
            </a:r>
            <a:endParaRPr b="0" lang="en-US" sz="2400" spc="-1" strike="noStrike">
              <a:solidFill>
                <a:srgbClr val="000000"/>
              </a:solidFill>
              <a:latin typeface="Times New Roman"/>
            </a:endParaRPr>
          </a:p>
        </p:txBody>
      </p:sp>
      <p:sp>
        <p:nvSpPr>
          <p:cNvPr id="239" name=""/>
          <p:cNvSpPr/>
          <p:nvPr/>
        </p:nvSpPr>
        <p:spPr>
          <a:xfrm>
            <a:off x="5410080" y="2590920"/>
            <a:ext cx="381240" cy="1066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6629400" y="3429000"/>
            <a:ext cx="152280" cy="380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flipV="1">
            <a:off x="7543440" y="3429000"/>
            <a:ext cx="152280" cy="380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8381520" y="3124080"/>
            <a:ext cx="22860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24280" y="4876920"/>
            <a:ext cx="4419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me Servers, Halflife: </a:t>
            </a:r>
            <a:r>
              <a:rPr b="0" lang="en-US" sz="2000" spc="-1" strike="noStrike">
                <a:solidFill>
                  <a:srgbClr val="000000"/>
                </a:solidFill>
                <a:latin typeface="Times New Roman"/>
              </a:rPr>
              <a:t>	</a:t>
            </a:r>
            <a:r>
              <a:rPr b="0" lang="en-US" sz="2000" spc="-1" strike="noStrike">
                <a:solidFill>
                  <a:srgbClr val="000000"/>
                </a:solidFill>
                <a:latin typeface="Times New Roman"/>
              </a:rPr>
              <a:t>       20,0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ers, IIS/Apache:</a:t>
            </a:r>
            <a:r>
              <a:rPr b="0" lang="en-US" sz="2000" spc="-1" strike="noStrike">
                <a:solidFill>
                  <a:srgbClr val="000000"/>
                </a:solidFill>
                <a:latin typeface="Times New Roman"/>
              </a:rPr>
              <a:t>	</a:t>
            </a:r>
            <a:r>
              <a:rPr b="0" lang="en-US" sz="2000" spc="-1" strike="noStrike">
                <a:solidFill>
                  <a:srgbClr val="000000"/>
                </a:solidFill>
                <a:latin typeface="Times New Roman"/>
              </a:rPr>
              <a:t>  3,000,0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2P, KaZaA:</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t;5,000,0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ows CIFS and RPC:</a:t>
            </a:r>
            <a:r>
              <a:rPr b="0" lang="en-US" sz="2000" spc="-1" strike="noStrike">
                <a:solidFill>
                  <a:srgbClr val="000000"/>
                </a:solidFill>
                <a:latin typeface="Times New Roman"/>
              </a:rPr>
              <a:t>	</a:t>
            </a:r>
            <a:r>
              <a:rPr b="0" lang="en-US" sz="2000" spc="-1" strike="noStrike">
                <a:solidFill>
                  <a:srgbClr val="000000"/>
                </a:solidFill>
                <a:latin typeface="Times New Roman"/>
              </a:rPr>
              <a:t>50,000,000?</a:t>
            </a:r>
            <a:endParaRPr b="0" lang="en-US" sz="2000" spc="-1" strike="noStrike">
              <a:solidFill>
                <a:srgbClr val="000000"/>
              </a:solidFill>
              <a:latin typeface="Times New Roman"/>
            </a:endParaRPr>
          </a:p>
        </p:txBody>
      </p:sp>
      <p:sp>
        <p:nvSpPr>
          <p:cNvPr id="244" name=""/>
          <p:cNvSpPr/>
          <p:nvPr/>
        </p:nvSpPr>
        <p:spPr>
          <a:xfrm>
            <a:off x="4648320" y="5029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066680" y="41148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648320" y="5334120"/>
            <a:ext cx="152280" cy="1522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066680" y="3200400"/>
            <a:ext cx="5562720" cy="2133720"/>
            <a:chOff x="1066680" y="3200400"/>
            <a:chExt cx="5562720" cy="2133720"/>
          </a:xfrm>
        </p:grpSpPr>
        <p:sp>
          <p:nvSpPr>
            <p:cNvPr id="248" name=""/>
            <p:cNvSpPr/>
            <p:nvPr/>
          </p:nvSpPr>
          <p:spPr>
            <a:xfrm>
              <a:off x="1981080" y="5181480"/>
              <a:ext cx="152640" cy="15264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477120" y="3886200"/>
              <a:ext cx="152280" cy="1522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066680" y="3200400"/>
              <a:ext cx="152640" cy="152280"/>
            </a:xfrm>
            <a:prstGeom prst="rect">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4648320" y="5638680"/>
            <a:ext cx="152280" cy="152640"/>
          </a:xfrm>
          <a:prstGeom prst="rect">
            <a:avLst/>
          </a:prstGeom>
          <a:solidFill>
            <a:srgbClr val="996633"/>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1219320" y="3200400"/>
            <a:ext cx="6476760" cy="1066680"/>
            <a:chOff x="1219320" y="3200400"/>
            <a:chExt cx="6476760" cy="1066680"/>
          </a:xfrm>
        </p:grpSpPr>
        <p:sp>
          <p:nvSpPr>
            <p:cNvPr id="253" name=""/>
            <p:cNvSpPr/>
            <p:nvPr/>
          </p:nvSpPr>
          <p:spPr>
            <a:xfrm>
              <a:off x="1219320" y="3200400"/>
              <a:ext cx="152280" cy="152280"/>
            </a:xfrm>
            <a:prstGeom prst="rect">
              <a:avLst/>
            </a:prstGeom>
            <a:solidFill>
              <a:srgbClr val="996633"/>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19320" y="4114800"/>
              <a:ext cx="152280" cy="152280"/>
            </a:xfrm>
            <a:prstGeom prst="rect">
              <a:avLst/>
            </a:prstGeom>
            <a:solidFill>
              <a:srgbClr val="996633"/>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543800" y="3886200"/>
              <a:ext cx="152280" cy="152280"/>
            </a:xfrm>
            <a:prstGeom prst="rect">
              <a:avLst/>
            </a:prstGeom>
            <a:solidFill>
              <a:srgbClr val="996633"/>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4648320" y="5943600"/>
            <a:ext cx="152280" cy="152280"/>
          </a:xfrm>
          <a:prstGeom prst="rect">
            <a:avLst/>
          </a:prstGeom>
          <a:solidFill>
            <a:srgbClr val="ff3300"/>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1066680" y="3352680"/>
            <a:ext cx="7543800" cy="1067040"/>
            <a:chOff x="1066680" y="3352680"/>
            <a:chExt cx="7543800" cy="1067040"/>
          </a:xfrm>
        </p:grpSpPr>
        <p:sp>
          <p:nvSpPr>
            <p:cNvPr id="258" name=""/>
            <p:cNvSpPr/>
            <p:nvPr/>
          </p:nvSpPr>
          <p:spPr>
            <a:xfrm>
              <a:off x="1066680" y="4267080"/>
              <a:ext cx="152640" cy="152640"/>
            </a:xfrm>
            <a:prstGeom prst="rect">
              <a:avLst/>
            </a:prstGeom>
            <a:solidFill>
              <a:srgbClr val="ff3300"/>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066680" y="3352680"/>
              <a:ext cx="152640" cy="152640"/>
            </a:xfrm>
            <a:prstGeom prst="rect">
              <a:avLst/>
            </a:prstGeom>
            <a:solidFill>
              <a:srgbClr val="ff3300"/>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29400" y="3886200"/>
              <a:ext cx="152280" cy="152280"/>
            </a:xfrm>
            <a:prstGeom prst="rect">
              <a:avLst/>
            </a:prstGeom>
            <a:solidFill>
              <a:srgbClr val="ff3300"/>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696080" y="3886200"/>
              <a:ext cx="152640" cy="152280"/>
            </a:xfrm>
            <a:prstGeom prst="rect">
              <a:avLst/>
            </a:prstGeom>
            <a:solidFill>
              <a:srgbClr val="ff3300"/>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458200" y="3657600"/>
              <a:ext cx="152280" cy="152280"/>
            </a:xfrm>
            <a:prstGeom prst="rect">
              <a:avLst/>
            </a:prstGeom>
            <a:solidFill>
              <a:srgbClr val="ff3300"/>
            </a:solidFill>
            <a:ln w="9360">
              <a:solidFill>
                <a:srgbClr val="ff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7307960-CECC-4818-9712-598E64B63A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cessary to </a:t>
            </a:r>
            <a:br>
              <a:rPr sz="4400"/>
            </a:br>
            <a:r>
              <a:rPr b="0" lang="en-US" sz="4400" spc="-1" strike="noStrike">
                <a:solidFill>
                  <a:srgbClr val="000000"/>
                </a:solidFill>
                <a:latin typeface="Times New Roman"/>
              </a:rPr>
              <a:t>Stop Worms?</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Better Code" is insufficient</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gs Happen (including stack overflow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ches aren’t deployed</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s don’t work</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Red II and Nimda could exploit a single breach</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 responses are critical to stop worm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pphire could not be slowed by human respons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ow to 0wn ...” and </a:t>
            </a:r>
            <a:br>
              <a:rPr sz="2000"/>
            </a:br>
            <a:r>
              <a:rPr b="0" lang="en-US" sz="2000" spc="-1" strike="noStrike">
                <a:solidFill>
                  <a:srgbClr val="000000"/>
                </a:solidFill>
                <a:latin typeface="Times New Roman"/>
              </a:rPr>
              <a:t>Moore et al, “Internet Quarantine”</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needed:</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human analysis tools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recovery mechanisms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level preven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ED4046-5FCC-40FB-86E4-4B9BCB4E44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Key Problems: Detection, </a:t>
            </a:r>
            <a:br>
              <a:rPr sz="4400"/>
            </a:br>
            <a:r>
              <a:rPr b="0" lang="en-US" sz="4400" spc="-1" strike="noStrike">
                <a:solidFill>
                  <a:srgbClr val="000000"/>
                </a:solidFill>
                <a:latin typeface="Times New Roman"/>
              </a:rPr>
              <a:t>Analysis, and Response</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 Detection: Determine that a worm is operating on the Internet</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strategies does a worm use, what services are targeted, and what systems are vulnerable (a vulnerability signature)?</a:t>
            </a:r>
            <a:endParaRPr b="0" lang="en-US" sz="20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ossible, an attack signature</a:t>
            </a:r>
            <a:endParaRPr b="0" lang="en-US" sz="18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What machines are infected” is insufficient, </a:t>
            </a:r>
            <a:endParaRPr b="0" lang="en-US" sz="20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oore et al.</a:t>
            </a:r>
            <a:endParaRPr b="0" lang="en-US" sz="18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 Analysis: Given numerous sensors and other devices, create an understanding of the worm</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virulent?</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 current defenses effective?</a:t>
            </a:r>
            <a:endParaRPr b="0" lang="en-US" sz="20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o scale responses</a:t>
            </a:r>
            <a:endParaRPr b="0" lang="en-US" sz="18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 Response: Change the network in order to resist further infec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183F96-CCEF-4149-971F-A475CBFD80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of This Talk</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0720"/>
            <a:ext cx="73152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m target selection strategi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which worms can us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offense before building detectors and response mechanism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otential detection and analysis technique: </a:t>
            </a:r>
            <a:br>
              <a:rPr sz="2800"/>
            </a:br>
            <a:r>
              <a:rPr b="0" lang="en-US" sz="2800" spc="-1" strike="noStrike">
                <a:solidFill>
                  <a:srgbClr val="000000"/>
                </a:solidFill>
                <a:latin typeface="Times New Roman"/>
              </a:rPr>
              <a:t>Wormholes and a Honeyfar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lusion of hundreds or thousands of distributed honeypo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idespread, reliable sensor networ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le of being fully automatic</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oint of tru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161E17-F60E-4B9D-AB2E-7C9F402E38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ms Must </a:t>
            </a:r>
            <a:br>
              <a:rPr sz="4400"/>
            </a:br>
            <a:r>
              <a:rPr b="0" lang="en-US" sz="4400" spc="-1" strike="noStrike">
                <a:solidFill>
                  <a:srgbClr val="000000"/>
                </a:solidFill>
                <a:latin typeface="Times New Roman"/>
              </a:rPr>
              <a:t>Discover New Targets</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1980720"/>
            <a:ext cx="62485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preading worm must discover new targe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understand all possible strateg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target selection strategies seem possib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detect the worm, detect the act of spread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detection of previously unknown </a:t>
            </a:r>
            <a:br>
              <a:rPr sz="2000"/>
            </a:br>
            <a:r>
              <a:rPr b="0" lang="en-US" sz="2000" spc="-1" strike="noStrike">
                <a:solidFill>
                  <a:srgbClr val="000000"/>
                </a:solidFill>
                <a:latin typeface="Times New Roman"/>
              </a:rPr>
              <a:t>worm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p the spread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ent further targets from being </a:t>
            </a:r>
            <a:br>
              <a:rPr sz="2000"/>
            </a:br>
            <a:r>
              <a:rPr b="0" lang="en-US" sz="2000" spc="-1" strike="noStrike">
                <a:solidFill>
                  <a:srgbClr val="000000"/>
                </a:solidFill>
                <a:latin typeface="Times New Roman"/>
              </a:rPr>
              <a:t>discovered and infec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knowledge from detection and analysi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Understand the strategies</a:t>
            </a:r>
            <a:endParaRPr b="0" lang="en-US" sz="2400" spc="-1" strike="noStrike">
              <a:solidFill>
                <a:srgbClr val="000000"/>
              </a:solidFill>
              <a:latin typeface="Times New Roman"/>
            </a:endParaRPr>
          </a:p>
        </p:txBody>
      </p:sp>
      <p:grpSp>
        <p:nvGrpSpPr>
          <p:cNvPr id="271" name=""/>
          <p:cNvGrpSpPr/>
          <p:nvPr/>
        </p:nvGrpSpPr>
        <p:grpSpPr>
          <a:xfrm>
            <a:off x="6324480" y="2590920"/>
            <a:ext cx="2667240" cy="3504600"/>
            <a:chOff x="6324480" y="2590920"/>
            <a:chExt cx="2667240" cy="3504600"/>
          </a:xfrm>
        </p:grpSpPr>
        <p:grpSp>
          <p:nvGrpSpPr>
            <p:cNvPr id="272" name=""/>
            <p:cNvGrpSpPr/>
            <p:nvPr/>
          </p:nvGrpSpPr>
          <p:grpSpPr>
            <a:xfrm>
              <a:off x="6324480" y="3629160"/>
              <a:ext cx="497160" cy="583560"/>
              <a:chOff x="6324480" y="3629160"/>
              <a:chExt cx="497160" cy="583560"/>
            </a:xfrm>
          </p:grpSpPr>
          <p:sp>
            <p:nvSpPr>
              <p:cNvPr id="273" name=""/>
              <p:cNvSpPr/>
              <p:nvPr/>
            </p:nvSpPr>
            <p:spPr>
              <a:xfrm>
                <a:off x="6386400" y="3629160"/>
                <a:ext cx="372960" cy="389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448680" y="3693960"/>
                <a:ext cx="248760" cy="2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324480" y="4083120"/>
                <a:ext cx="497160" cy="129600"/>
              </a:xfrm>
              <a:custGeom>
                <a:avLst/>
                <a:gdLst>
                  <a:gd name="textAreaLeft" fmla="*/ 82440 w 497160"/>
                  <a:gd name="textAreaRight" fmla="*/ 414720 w 497160"/>
                  <a:gd name="textAreaTop" fmla="*/ 21600 h 129600"/>
                  <a:gd name="textAreaBottom" fmla="*/ 108000 h 12960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276" name=""/>
            <p:cNvGrpSpPr/>
            <p:nvPr/>
          </p:nvGrpSpPr>
          <p:grpSpPr>
            <a:xfrm>
              <a:off x="7502400" y="2590920"/>
              <a:ext cx="497160" cy="583560"/>
              <a:chOff x="7502400" y="2590920"/>
              <a:chExt cx="497160" cy="583560"/>
            </a:xfrm>
          </p:grpSpPr>
          <p:sp>
            <p:nvSpPr>
              <p:cNvPr id="277" name=""/>
              <p:cNvSpPr/>
              <p:nvPr/>
            </p:nvSpPr>
            <p:spPr>
              <a:xfrm>
                <a:off x="7564320" y="2590920"/>
                <a:ext cx="372960" cy="389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626600" y="2655720"/>
                <a:ext cx="248760" cy="2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7502400" y="3044880"/>
                <a:ext cx="497160" cy="129600"/>
              </a:xfrm>
              <a:custGeom>
                <a:avLst/>
                <a:gdLst>
                  <a:gd name="textAreaLeft" fmla="*/ 82440 w 497160"/>
                  <a:gd name="textAreaRight" fmla="*/ 414720 w 497160"/>
                  <a:gd name="textAreaTop" fmla="*/ 21600 h 129600"/>
                  <a:gd name="textAreaBottom" fmla="*/ 108000 h 12960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280" name=""/>
            <p:cNvGrpSpPr/>
            <p:nvPr/>
          </p:nvGrpSpPr>
          <p:grpSpPr>
            <a:xfrm>
              <a:off x="8308800" y="2590920"/>
              <a:ext cx="497160" cy="583560"/>
              <a:chOff x="8308800" y="2590920"/>
              <a:chExt cx="497160" cy="583560"/>
            </a:xfrm>
          </p:grpSpPr>
          <p:sp>
            <p:nvSpPr>
              <p:cNvPr id="281" name=""/>
              <p:cNvSpPr/>
              <p:nvPr/>
            </p:nvSpPr>
            <p:spPr>
              <a:xfrm>
                <a:off x="8370720" y="2590920"/>
                <a:ext cx="372960" cy="389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433000" y="2655720"/>
                <a:ext cx="248760" cy="2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8308800" y="3044880"/>
                <a:ext cx="497160" cy="129600"/>
              </a:xfrm>
              <a:custGeom>
                <a:avLst/>
                <a:gdLst>
                  <a:gd name="textAreaLeft" fmla="*/ 82440 w 497160"/>
                  <a:gd name="textAreaRight" fmla="*/ 414720 w 497160"/>
                  <a:gd name="textAreaTop" fmla="*/ 21600 h 129600"/>
                  <a:gd name="textAreaBottom" fmla="*/ 108000 h 12960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284" name=""/>
            <p:cNvGrpSpPr/>
            <p:nvPr/>
          </p:nvGrpSpPr>
          <p:grpSpPr>
            <a:xfrm>
              <a:off x="8494560" y="4538520"/>
              <a:ext cx="497160" cy="583920"/>
              <a:chOff x="8494560" y="4538520"/>
              <a:chExt cx="497160" cy="583920"/>
            </a:xfrm>
          </p:grpSpPr>
          <p:sp>
            <p:nvSpPr>
              <p:cNvPr id="285" name=""/>
              <p:cNvSpPr/>
              <p:nvPr/>
            </p:nvSpPr>
            <p:spPr>
              <a:xfrm>
                <a:off x="8556480" y="4538520"/>
                <a:ext cx="372960" cy="38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8760" y="4603320"/>
                <a:ext cx="248760" cy="2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8494560" y="4992840"/>
                <a:ext cx="497160" cy="129600"/>
              </a:xfrm>
              <a:custGeom>
                <a:avLst/>
                <a:gdLst>
                  <a:gd name="textAreaLeft" fmla="*/ 82440 w 497160"/>
                  <a:gd name="textAreaRight" fmla="*/ 414720 w 497160"/>
                  <a:gd name="textAreaTop" fmla="*/ 21600 h 129600"/>
                  <a:gd name="textAreaBottom" fmla="*/ 108000 h 12960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288" name=""/>
            <p:cNvGrpSpPr/>
            <p:nvPr/>
          </p:nvGrpSpPr>
          <p:grpSpPr>
            <a:xfrm>
              <a:off x="6324480" y="4862520"/>
              <a:ext cx="497160" cy="583920"/>
              <a:chOff x="6324480" y="4862520"/>
              <a:chExt cx="497160" cy="583920"/>
            </a:xfrm>
          </p:grpSpPr>
          <p:sp>
            <p:nvSpPr>
              <p:cNvPr id="289" name=""/>
              <p:cNvSpPr/>
              <p:nvPr/>
            </p:nvSpPr>
            <p:spPr>
              <a:xfrm>
                <a:off x="6386400" y="4862520"/>
                <a:ext cx="372960" cy="38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48680" y="4927320"/>
                <a:ext cx="248760" cy="2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6324480" y="5316840"/>
                <a:ext cx="497160" cy="129600"/>
              </a:xfrm>
              <a:custGeom>
                <a:avLst/>
                <a:gdLst>
                  <a:gd name="textAreaLeft" fmla="*/ 82440 w 497160"/>
                  <a:gd name="textAreaRight" fmla="*/ 414720 w 497160"/>
                  <a:gd name="textAreaTop" fmla="*/ 21600 h 129600"/>
                  <a:gd name="textAreaBottom" fmla="*/ 108000 h 12960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292" name=""/>
            <p:cNvGrpSpPr/>
            <p:nvPr/>
          </p:nvGrpSpPr>
          <p:grpSpPr>
            <a:xfrm>
              <a:off x="7254720" y="5511960"/>
              <a:ext cx="497160" cy="583560"/>
              <a:chOff x="7254720" y="5511960"/>
              <a:chExt cx="497160" cy="583560"/>
            </a:xfrm>
          </p:grpSpPr>
          <p:sp>
            <p:nvSpPr>
              <p:cNvPr id="293" name=""/>
              <p:cNvSpPr/>
              <p:nvPr/>
            </p:nvSpPr>
            <p:spPr>
              <a:xfrm>
                <a:off x="7316640" y="5511960"/>
                <a:ext cx="372960" cy="389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378920" y="5576760"/>
                <a:ext cx="248760" cy="2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7254720" y="5965920"/>
                <a:ext cx="497160" cy="129600"/>
              </a:xfrm>
              <a:custGeom>
                <a:avLst/>
                <a:gdLst>
                  <a:gd name="textAreaLeft" fmla="*/ 82440 w 497160"/>
                  <a:gd name="textAreaRight" fmla="*/ 414720 w 497160"/>
                  <a:gd name="textAreaTop" fmla="*/ 21600 h 129600"/>
                  <a:gd name="textAreaBottom" fmla="*/ 108000 h 12960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296" name=""/>
            <p:cNvGrpSpPr/>
            <p:nvPr/>
          </p:nvGrpSpPr>
          <p:grpSpPr>
            <a:xfrm>
              <a:off x="8185320" y="5251320"/>
              <a:ext cx="496800" cy="583920"/>
              <a:chOff x="8185320" y="5251320"/>
              <a:chExt cx="496800" cy="583920"/>
            </a:xfrm>
          </p:grpSpPr>
          <p:sp>
            <p:nvSpPr>
              <p:cNvPr id="297" name=""/>
              <p:cNvSpPr/>
              <p:nvPr/>
            </p:nvSpPr>
            <p:spPr>
              <a:xfrm>
                <a:off x="8247240" y="5251320"/>
                <a:ext cx="372600" cy="38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309160" y="5316120"/>
                <a:ext cx="248400" cy="2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8185320" y="5705640"/>
                <a:ext cx="496800" cy="129600"/>
              </a:xfrm>
              <a:custGeom>
                <a:avLst/>
                <a:gdLst>
                  <a:gd name="textAreaLeft" fmla="*/ 82440 w 496800"/>
                  <a:gd name="textAreaRight" fmla="*/ 414360 w 496800"/>
                  <a:gd name="textAreaTop" fmla="*/ 21600 h 129600"/>
                  <a:gd name="textAreaBottom" fmla="*/ 108000 h 12960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300" name="Cloud"/>
            <p:cNvSpPr/>
            <p:nvPr/>
          </p:nvSpPr>
          <p:spPr>
            <a:xfrm>
              <a:off x="7007400" y="3564000"/>
              <a:ext cx="1301400" cy="1623960"/>
            </a:xfrm>
            <a:prstGeom prst="pie">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a:t>
              </a:r>
              <a:endParaRPr b="0" lang="en-US" sz="1600" spc="-1" strike="noStrike">
                <a:solidFill>
                  <a:srgbClr val="000000"/>
                </a:solidFill>
                <a:latin typeface="Times New Roman"/>
              </a:endParaRPr>
            </a:p>
          </p:txBody>
        </p:sp>
        <p:sp>
          <p:nvSpPr>
            <p:cNvPr id="301" name=""/>
            <p:cNvSpPr/>
            <p:nvPr/>
          </p:nvSpPr>
          <p:spPr>
            <a:xfrm>
              <a:off x="7689960" y="3174840"/>
              <a:ext cx="0" cy="519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8123040" y="3174840"/>
              <a:ext cx="309240" cy="519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8247240" y="4603320"/>
              <a:ext cx="311040" cy="12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flipV="1">
              <a:off x="8061120" y="4927320"/>
              <a:ext cx="247320" cy="323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7502400" y="5122440"/>
              <a:ext cx="61920" cy="389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6757920" y="4797000"/>
              <a:ext cx="311040" cy="195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757920" y="3824280"/>
              <a:ext cx="372960" cy="65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8" name=""/>
            <p:cNvSpPr/>
            <p:nvPr/>
          </p:nvSpPr>
          <p:spPr>
            <a:xfrm>
              <a:off x="7564320" y="2590920"/>
              <a:ext cx="373320" cy="388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26240" y="2655720"/>
              <a:ext cx="249480" cy="258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502400" y="3044160"/>
              <a:ext cx="497160" cy="129960"/>
            </a:xfrm>
            <a:custGeom>
              <a:avLst/>
              <a:gdLst>
                <a:gd name="textAreaLeft" fmla="*/ 82440 w 497160"/>
                <a:gd name="textAreaRight" fmla="*/ 414720 w 497160"/>
                <a:gd name="textAreaTop" fmla="*/ 21600 h 129960"/>
                <a:gd name="textAreaBottom" fmla="*/ 108360 h 12996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nvGrpSpPr>
            <p:cNvPr id="311" name=""/>
            <p:cNvGrpSpPr/>
            <p:nvPr/>
          </p:nvGrpSpPr>
          <p:grpSpPr>
            <a:xfrm>
              <a:off x="6819480" y="3240000"/>
              <a:ext cx="870480" cy="973080"/>
              <a:chOff x="6819480" y="3240000"/>
              <a:chExt cx="870480" cy="973080"/>
            </a:xfrm>
          </p:grpSpPr>
          <p:sp>
            <p:nvSpPr>
              <p:cNvPr id="312" name=""/>
              <p:cNvSpPr/>
              <p:nvPr/>
            </p:nvSpPr>
            <p:spPr>
              <a:xfrm>
                <a:off x="7689960" y="3240000"/>
                <a:ext cx="0" cy="973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6819480" y="3823200"/>
                <a:ext cx="870120" cy="389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26FDEF2E-52A4-4139-A8E6-9BDE8A7B9F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Spreading Strategies</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0720"/>
            <a:ext cx="5486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Target Selection (scann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wer", generi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nal target list (metaserv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 application specifi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generated target lists (hitlist &amp; flash)</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 requires prepara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target list (topologic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 application specifi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ve (contag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w" and stealth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agate in response to external even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ker can mix and match strategies</a:t>
            </a:r>
            <a:endParaRPr b="0" lang="en-US" sz="2400" spc="-1" strike="noStrike">
              <a:solidFill>
                <a:srgbClr val="000000"/>
              </a:solidFill>
              <a:latin typeface="Times New Roman"/>
            </a:endParaRPr>
          </a:p>
        </p:txBody>
      </p:sp>
      <p:grpSp>
        <p:nvGrpSpPr>
          <p:cNvPr id="316" name=""/>
          <p:cNvGrpSpPr/>
          <p:nvPr/>
        </p:nvGrpSpPr>
        <p:grpSpPr>
          <a:xfrm>
            <a:off x="5943600" y="2819160"/>
            <a:ext cx="2971800" cy="3628800"/>
            <a:chOff x="5943600" y="2819160"/>
            <a:chExt cx="2971800" cy="3628800"/>
          </a:xfrm>
        </p:grpSpPr>
        <p:sp>
          <p:nvSpPr>
            <p:cNvPr id="317" name=""/>
            <p:cNvSpPr/>
            <p:nvPr/>
          </p:nvSpPr>
          <p:spPr>
            <a:xfrm>
              <a:off x="6324480" y="5791320"/>
              <a:ext cx="2590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6324480" y="2819160"/>
              <a:ext cx="0" cy="297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041240" y="5805360"/>
              <a:ext cx="1690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Selection</a:t>
              </a:r>
              <a:br>
                <a:rPr sz="1800"/>
              </a:br>
              <a:r>
                <a:rPr b="0" lang="en-US" sz="1800" spc="-1" strike="noStrike">
                  <a:solidFill>
                    <a:srgbClr val="000000"/>
                  </a:solidFill>
                  <a:latin typeface="Times New Roman"/>
                </a:rPr>
                <a:t>Network Stealth</a:t>
              </a:r>
              <a:endParaRPr b="0" lang="en-US" sz="1800" spc="-1" strike="noStrike">
                <a:solidFill>
                  <a:srgbClr val="000000"/>
                </a:solidFill>
                <a:latin typeface="Times New Roman"/>
              </a:endParaRPr>
            </a:p>
          </p:txBody>
        </p:sp>
        <p:sp>
          <p:nvSpPr>
            <p:cNvPr id="320" name=""/>
            <p:cNvSpPr/>
            <p:nvPr/>
          </p:nvSpPr>
          <p:spPr>
            <a:xfrm rot="16200000">
              <a:off x="5757480" y="43002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a:t>
              </a:r>
              <a:endParaRPr b="0" lang="en-US" sz="1800" spc="-1" strike="noStrike">
                <a:solidFill>
                  <a:srgbClr val="000000"/>
                </a:solidFill>
                <a:latin typeface="Times New Roman"/>
              </a:endParaRPr>
            </a:p>
          </p:txBody>
        </p:sp>
      </p:grpSp>
      <p:sp>
        <p:nvSpPr>
          <p:cNvPr id="321" name=""/>
          <p:cNvSpPr/>
          <p:nvPr/>
        </p:nvSpPr>
        <p:spPr>
          <a:xfrm rot="16200000">
            <a:off x="5676840" y="3771360"/>
            <a:ext cx="190476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anning</a:t>
            </a:r>
            <a:endParaRPr b="0" lang="en-US" sz="1800" spc="-1" strike="noStrike">
              <a:solidFill>
                <a:srgbClr val="000000"/>
              </a:solidFill>
              <a:latin typeface="Times New Roman"/>
            </a:endParaRPr>
          </a:p>
        </p:txBody>
      </p:sp>
      <p:sp>
        <p:nvSpPr>
          <p:cNvPr id="322" name=""/>
          <p:cNvSpPr/>
          <p:nvPr/>
        </p:nvSpPr>
        <p:spPr>
          <a:xfrm rot="16200000">
            <a:off x="5981400" y="3161880"/>
            <a:ext cx="1600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aserver</a:t>
            </a:r>
            <a:endParaRPr b="0" lang="en-US" sz="1800" spc="-1" strike="noStrike">
              <a:solidFill>
                <a:srgbClr val="000000"/>
              </a:solidFill>
              <a:latin typeface="Times New Roman"/>
            </a:endParaRPr>
          </a:p>
        </p:txBody>
      </p:sp>
      <p:sp>
        <p:nvSpPr>
          <p:cNvPr id="323" name=""/>
          <p:cNvSpPr/>
          <p:nvPr/>
        </p:nvSpPr>
        <p:spPr>
          <a:xfrm rot="16200000">
            <a:off x="6591240" y="3161880"/>
            <a:ext cx="16002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ash</a:t>
            </a:r>
            <a:endParaRPr b="0" lang="en-US" sz="1800" spc="-1" strike="noStrike">
              <a:solidFill>
                <a:srgbClr val="000000"/>
              </a:solidFill>
              <a:latin typeface="Times New Roman"/>
            </a:endParaRPr>
          </a:p>
        </p:txBody>
      </p:sp>
      <p:sp>
        <p:nvSpPr>
          <p:cNvPr id="324" name=""/>
          <p:cNvSpPr/>
          <p:nvPr/>
        </p:nvSpPr>
        <p:spPr>
          <a:xfrm rot="16200000">
            <a:off x="6857640" y="3123720"/>
            <a:ext cx="167652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pological</a:t>
            </a:r>
            <a:endParaRPr b="0" lang="en-US" sz="1800" spc="-1" strike="noStrike">
              <a:solidFill>
                <a:srgbClr val="000000"/>
              </a:solidFill>
              <a:latin typeface="Times New Roman"/>
            </a:endParaRPr>
          </a:p>
        </p:txBody>
      </p:sp>
      <p:sp>
        <p:nvSpPr>
          <p:cNvPr id="325" name=""/>
          <p:cNvSpPr/>
          <p:nvPr/>
        </p:nvSpPr>
        <p:spPr>
          <a:xfrm rot="16200000">
            <a:off x="7810560" y="4914720"/>
            <a:ext cx="137160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gio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32E8C30-D032-4435-8C6B-1B9870D370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iques Used to Understand Worm Strategies:</a:t>
            </a: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ious Wor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o calibrate simulation and mathematical model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al mode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model scanning and some other strategi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Model the worms in a fully connected, 32 bit address spa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block cipher to construct a pseudo-random permuta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ddr) -&gt; table ID.  D(table ID)-&gt; add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vily used to model enhanced strategi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1F74D7-00BC-4AF6-826B-E9A91E894A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ndom Target Selection: </a:t>
            </a:r>
            <a:br>
              <a:rPr sz="4400"/>
            </a:br>
            <a:r>
              <a:rPr b="0" lang="en-US" sz="4400" spc="-1" strike="noStrike">
                <a:solidFill>
                  <a:srgbClr val="000000"/>
                </a:solidFill>
                <a:latin typeface="Times New Roman"/>
              </a:rPr>
              <a:t>Scanning Worms</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Forever: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k a "random" address, </a:t>
            </a:r>
            <a:br>
              <a:rPr sz="2000"/>
            </a:br>
            <a:r>
              <a:rPr b="0" lang="en-US" sz="2000" spc="-1" strike="noStrike">
                <a:solidFill>
                  <a:srgbClr val="000000"/>
                </a:solidFill>
                <a:latin typeface="Times New Roman"/>
              </a:rPr>
              <a:t>if vulnerable, infect i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to implem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code is generi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K) depends 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 of scann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vulnerable machin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ddress spac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ing unproductive in an IPv6 internet</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stages are exponenti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tion from epidemiology</a:t>
            </a:r>
            <a:endParaRPr b="0" lang="en-US" sz="2000" spc="-1" strike="noStrike">
              <a:solidFill>
                <a:srgbClr val="000000"/>
              </a:solidFill>
              <a:latin typeface="Times New Roman"/>
            </a:endParaRPr>
          </a:p>
        </p:txBody>
      </p:sp>
      <p:pic>
        <p:nvPicPr>
          <p:cNvPr id="330" name="" descr=""/>
          <p:cNvPicPr/>
          <p:nvPr/>
        </p:nvPicPr>
        <p:blipFill>
          <a:blip r:embed="rId1"/>
          <a:stretch/>
        </p:blipFill>
        <p:spPr>
          <a:xfrm>
            <a:off x="5410080" y="2133720"/>
            <a:ext cx="3519720" cy="1238040"/>
          </a:xfrm>
          <a:prstGeom prst="rect">
            <a:avLst/>
          </a:prstGeom>
          <a:ln w="0">
            <a:noFill/>
          </a:ln>
        </p:spPr>
      </p:pic>
      <p:grpSp>
        <p:nvGrpSpPr>
          <p:cNvPr id="331" name=""/>
          <p:cNvGrpSpPr/>
          <p:nvPr/>
        </p:nvGrpSpPr>
        <p:grpSpPr>
          <a:xfrm>
            <a:off x="5411880" y="4114800"/>
            <a:ext cx="3659040" cy="703800"/>
            <a:chOff x="5411880" y="4114800"/>
            <a:chExt cx="3659040" cy="703800"/>
          </a:xfrm>
        </p:grpSpPr>
        <p:sp>
          <p:nvSpPr>
            <p:cNvPr id="332" name=""/>
            <p:cNvSpPr/>
            <p:nvPr/>
          </p:nvSpPr>
          <p:spPr>
            <a:xfrm>
              <a:off x="6046560" y="4114800"/>
              <a:ext cx="3024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n Rate * Vuln Machin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Space Size</a:t>
              </a:r>
              <a:endParaRPr b="0" lang="en-US" sz="2000" spc="-1" strike="noStrike">
                <a:solidFill>
                  <a:srgbClr val="000000"/>
                </a:solidFill>
                <a:latin typeface="Times New Roman"/>
              </a:endParaRPr>
            </a:p>
          </p:txBody>
        </p:sp>
        <p:sp>
          <p:nvSpPr>
            <p:cNvPr id="333" name=""/>
            <p:cNvSpPr/>
            <p:nvPr/>
          </p:nvSpPr>
          <p:spPr>
            <a:xfrm>
              <a:off x="5411880" y="4218120"/>
              <a:ext cx="64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a:t>
              </a:r>
              <a:endParaRPr b="0" lang="en-US" sz="2400" spc="-1" strike="noStrike">
                <a:solidFill>
                  <a:srgbClr val="000000"/>
                </a:solidFill>
                <a:latin typeface="Times New Roman"/>
              </a:endParaRPr>
            </a:p>
          </p:txBody>
        </p:sp>
        <p:sp>
          <p:nvSpPr>
            <p:cNvPr id="334" name=""/>
            <p:cNvSpPr/>
            <p:nvPr/>
          </p:nvSpPr>
          <p:spPr>
            <a:xfrm>
              <a:off x="6095880" y="4446720"/>
              <a:ext cx="297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5" name="caida-codered" descr=""/>
          <p:cNvPicPr/>
          <p:nvPr/>
        </p:nvPicPr>
        <p:blipFill>
          <a:blip r:embed="rId2"/>
          <a:stretch/>
        </p:blipFill>
        <p:spPr>
          <a:xfrm>
            <a:off x="6400800" y="4876920"/>
            <a:ext cx="2286000" cy="1935000"/>
          </a:xfrm>
          <a:prstGeom prst="rect">
            <a:avLst/>
          </a:prstGeom>
          <a:ln w="0">
            <a:noFill/>
          </a:ln>
        </p:spPr>
      </p:pic>
      <p:sp>
        <p:nvSpPr>
          <p:cNvPr id="4" name="PlaceHolder 3"/>
          <p:cNvSpPr>
            <a:spLocks noGrp="1"/>
          </p:cNvSpPr>
          <p:nvPr>
            <p:ph type="sldNum" idx="3"/>
          </p:nvPr>
        </p:nvSpPr>
        <p:spPr/>
        <p:txBody>
          <a:bodyPr/>
          <a:p>
            <a:fld id="{B1E9087D-2622-4724-8CDF-259B9FB2E9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nning Worm Optimizations</a:t>
            </a: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subnet scanning: Preferentially scan the local network </a:t>
            </a:r>
            <a:br>
              <a:rPr sz="2400"/>
            </a:br>
            <a:r>
              <a:rPr b="0" lang="en-US" sz="2400" spc="-1" strike="noStrike">
                <a:solidFill>
                  <a:srgbClr val="000000"/>
                </a:solidFill>
                <a:latin typeface="Times New Roman"/>
              </a:rPr>
              <a:t>(Code Red II, Nimd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it a single breach to attack the local Intrane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erentially scan more populated addresses: (scalper &amp; slapp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hensive scan random </a:t>
            </a:r>
            <a:r>
              <a:rPr b="1" lang="en-US" sz="2400" spc="-1" strike="noStrike">
                <a:solidFill>
                  <a:srgbClr val="000000"/>
                </a:solidFill>
                <a:latin typeface="Courier New"/>
              </a:rPr>
              <a:t>/24</a:t>
            </a:r>
            <a:r>
              <a:rPr b="0" lang="en-US" sz="2400" spc="-1" strike="noStrike">
                <a:solidFill>
                  <a:srgbClr val="000000"/>
                </a:solidFill>
                <a:latin typeface="Times New Roman"/>
              </a:rPr>
              <a:t>s: (scalper &amp; slapp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ually not need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Scanning (origi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arantees distributed scanning without explicit cooper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dwidth-limited scanner (sapphire)</a:t>
            </a:r>
            <a:endParaRPr b="0" lang="en-US" sz="2400" spc="-1" strike="noStrike">
              <a:solidFill>
                <a:srgbClr val="000000"/>
              </a:solidFill>
              <a:latin typeface="Times New Roman"/>
            </a:endParaRPr>
          </a:p>
        </p:txBody>
      </p:sp>
      <p:grpSp>
        <p:nvGrpSpPr>
          <p:cNvPr id="338" name=""/>
          <p:cNvGrpSpPr/>
          <p:nvPr/>
        </p:nvGrpSpPr>
        <p:grpSpPr>
          <a:xfrm>
            <a:off x="7467480" y="2030400"/>
            <a:ext cx="1447560" cy="804240"/>
            <a:chOff x="7467480" y="2030400"/>
            <a:chExt cx="1447560" cy="804240"/>
          </a:xfrm>
        </p:grpSpPr>
        <p:grpSp>
          <p:nvGrpSpPr>
            <p:cNvPr id="339" name=""/>
            <p:cNvGrpSpPr/>
            <p:nvPr/>
          </p:nvGrpSpPr>
          <p:grpSpPr>
            <a:xfrm>
              <a:off x="8700840" y="2513160"/>
              <a:ext cx="214200" cy="240840"/>
              <a:chOff x="8700840" y="2513160"/>
              <a:chExt cx="214200" cy="240840"/>
            </a:xfrm>
          </p:grpSpPr>
          <p:sp>
            <p:nvSpPr>
              <p:cNvPr id="340" name=""/>
              <p:cNvSpPr/>
              <p:nvPr/>
            </p:nvSpPr>
            <p:spPr>
              <a:xfrm>
                <a:off x="8727480" y="2513160"/>
                <a:ext cx="160560" cy="16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754120" y="2539800"/>
                <a:ext cx="107280" cy="10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8700840" y="2700720"/>
                <a:ext cx="214200" cy="53280"/>
              </a:xfrm>
              <a:custGeom>
                <a:avLst/>
                <a:gdLst>
                  <a:gd name="textAreaLeft" fmla="*/ 35640 w 214200"/>
                  <a:gd name="textAreaRight" fmla="*/ 178560 w 214200"/>
                  <a:gd name="textAreaTop" fmla="*/ 8640 h 53280"/>
                  <a:gd name="textAreaBottom" fmla="*/ 44640 h 53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343" name=""/>
            <p:cNvGrpSpPr/>
            <p:nvPr/>
          </p:nvGrpSpPr>
          <p:grpSpPr>
            <a:xfrm>
              <a:off x="8003520" y="2593800"/>
              <a:ext cx="214560" cy="240840"/>
              <a:chOff x="8003520" y="2593800"/>
              <a:chExt cx="214560" cy="240840"/>
            </a:xfrm>
          </p:grpSpPr>
          <p:sp>
            <p:nvSpPr>
              <p:cNvPr id="344" name=""/>
              <p:cNvSpPr/>
              <p:nvPr/>
            </p:nvSpPr>
            <p:spPr>
              <a:xfrm>
                <a:off x="8030160" y="2593800"/>
                <a:ext cx="160920" cy="16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57160" y="2620440"/>
                <a:ext cx="107280" cy="10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8003520" y="2781360"/>
                <a:ext cx="214560" cy="53280"/>
              </a:xfrm>
              <a:custGeom>
                <a:avLst/>
                <a:gdLst>
                  <a:gd name="textAreaLeft" fmla="*/ 35640 w 214560"/>
                  <a:gd name="textAreaRight" fmla="*/ 178920 w 214560"/>
                  <a:gd name="textAreaTop" fmla="*/ 8640 h 53280"/>
                  <a:gd name="textAreaBottom" fmla="*/ 44640 h 53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347" name=""/>
            <p:cNvGrpSpPr/>
            <p:nvPr/>
          </p:nvGrpSpPr>
          <p:grpSpPr>
            <a:xfrm>
              <a:off x="8379000" y="2593800"/>
              <a:ext cx="214200" cy="240840"/>
              <a:chOff x="8379000" y="2593800"/>
              <a:chExt cx="214200" cy="240840"/>
            </a:xfrm>
          </p:grpSpPr>
          <p:sp>
            <p:nvSpPr>
              <p:cNvPr id="348" name=""/>
              <p:cNvSpPr/>
              <p:nvPr/>
            </p:nvSpPr>
            <p:spPr>
              <a:xfrm>
                <a:off x="8405640" y="2593800"/>
                <a:ext cx="160560" cy="16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432280" y="2620440"/>
                <a:ext cx="107280" cy="10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8379000" y="2781360"/>
                <a:ext cx="214200" cy="53280"/>
              </a:xfrm>
              <a:custGeom>
                <a:avLst/>
                <a:gdLst>
                  <a:gd name="textAreaLeft" fmla="*/ 35640 w 214200"/>
                  <a:gd name="textAreaRight" fmla="*/ 178560 w 214200"/>
                  <a:gd name="textAreaTop" fmla="*/ 8640 h 53280"/>
                  <a:gd name="textAreaBottom" fmla="*/ 44640 h 53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sp>
          <p:nvSpPr>
            <p:cNvPr id="351" name=""/>
            <p:cNvSpPr/>
            <p:nvPr/>
          </p:nvSpPr>
          <p:spPr>
            <a:xfrm flipV="1">
              <a:off x="7467480" y="2325600"/>
              <a:ext cx="482400" cy="532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2" name=""/>
            <p:cNvSpPr/>
            <p:nvPr/>
          </p:nvSpPr>
          <p:spPr>
            <a:xfrm>
              <a:off x="7637040" y="20304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Cloud"/>
            <p:cNvSpPr/>
            <p:nvPr/>
          </p:nvSpPr>
          <p:spPr>
            <a:xfrm>
              <a:off x="7949880" y="2057040"/>
              <a:ext cx="804240" cy="429120"/>
            </a:xfrm>
            <a:prstGeom prst="pie">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7681680" y="2164680"/>
              <a:ext cx="133920" cy="3754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8110800" y="2459520"/>
              <a:ext cx="53280" cy="1339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flipV="1">
              <a:off x="8432640" y="2459520"/>
              <a:ext cx="53280" cy="1339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flipV="1">
              <a:off x="8727480" y="2351880"/>
              <a:ext cx="80280" cy="1609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8005680" y="2595600"/>
            <a:ext cx="214560" cy="240840"/>
            <a:chOff x="8005680" y="2595600"/>
            <a:chExt cx="214560" cy="240840"/>
          </a:xfrm>
        </p:grpSpPr>
        <p:sp>
          <p:nvSpPr>
            <p:cNvPr id="359" name=""/>
            <p:cNvSpPr/>
            <p:nvPr/>
          </p:nvSpPr>
          <p:spPr>
            <a:xfrm>
              <a:off x="8032320" y="2595600"/>
              <a:ext cx="160920" cy="160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8059320" y="2622240"/>
              <a:ext cx="107280" cy="106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8005680" y="2783160"/>
              <a:ext cx="214560" cy="53280"/>
            </a:xfrm>
            <a:custGeom>
              <a:avLst/>
              <a:gdLst>
                <a:gd name="textAreaLeft" fmla="*/ 35640 w 214560"/>
                <a:gd name="textAreaRight" fmla="*/ 178920 w 214560"/>
                <a:gd name="textAreaTop" fmla="*/ 8640 h 53280"/>
                <a:gd name="textAreaBottom" fmla="*/ 44640 h 53280"/>
              </a:gdLst>
              <a:ahLst/>
              <a:rect l="textAreaLeft" t="textAreaTop" r="textAreaRight" b="textAreaBottom"/>
              <a:pathLst>
                <a:path w="21600" h="21600">
                  <a:moveTo>
                    <a:pt x="0" y="0"/>
                  </a:moveTo>
                  <a:lnTo>
                    <a:pt x="21600" y="0"/>
                  </a:lnTo>
                  <a:lnTo>
                    <a:pt x="18282" y="21600"/>
                  </a:lnTo>
                  <a:lnTo>
                    <a:pt x="3318" y="21600"/>
                  </a:lnTo>
                  <a:close/>
                </a:path>
              </a:pathLst>
            </a:custGeom>
            <a:solidFill>
              <a:srgbClr val="ff33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362" name=""/>
          <p:cNvGrpSpPr/>
          <p:nvPr/>
        </p:nvGrpSpPr>
        <p:grpSpPr>
          <a:xfrm>
            <a:off x="8377200" y="2514600"/>
            <a:ext cx="536760" cy="321480"/>
            <a:chOff x="8377200" y="2514600"/>
            <a:chExt cx="536760" cy="321480"/>
          </a:xfrm>
        </p:grpSpPr>
        <p:grpSp>
          <p:nvGrpSpPr>
            <p:cNvPr id="363" name=""/>
            <p:cNvGrpSpPr/>
            <p:nvPr/>
          </p:nvGrpSpPr>
          <p:grpSpPr>
            <a:xfrm>
              <a:off x="8377200" y="2594880"/>
              <a:ext cx="214560" cy="241200"/>
              <a:chOff x="8377200" y="2594880"/>
              <a:chExt cx="214560" cy="241200"/>
            </a:xfrm>
          </p:grpSpPr>
          <p:sp>
            <p:nvSpPr>
              <p:cNvPr id="364" name=""/>
              <p:cNvSpPr/>
              <p:nvPr/>
            </p:nvSpPr>
            <p:spPr>
              <a:xfrm>
                <a:off x="8403840" y="2594880"/>
                <a:ext cx="160920" cy="160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430840" y="2621520"/>
                <a:ext cx="107280" cy="107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377200" y="2782080"/>
                <a:ext cx="214560" cy="53640"/>
              </a:xfrm>
              <a:custGeom>
                <a:avLst/>
                <a:gdLst>
                  <a:gd name="textAreaLeft" fmla="*/ 35640 w 214560"/>
                  <a:gd name="textAreaRight" fmla="*/ 178920 w 214560"/>
                  <a:gd name="textAreaTop" fmla="*/ 8640 h 53640"/>
                  <a:gd name="textAreaBottom" fmla="*/ 45000 h 53640"/>
                </a:gdLst>
                <a:ahLst/>
                <a:rect l="textAreaLeft" t="textAreaTop" r="textAreaRight" b="textAreaBottom"/>
                <a:pathLst>
                  <a:path w="21600" h="21600">
                    <a:moveTo>
                      <a:pt x="0" y="0"/>
                    </a:moveTo>
                    <a:lnTo>
                      <a:pt x="21600" y="0"/>
                    </a:lnTo>
                    <a:lnTo>
                      <a:pt x="18282" y="21600"/>
                    </a:lnTo>
                    <a:lnTo>
                      <a:pt x="3318" y="21600"/>
                    </a:lnTo>
                    <a:close/>
                  </a:path>
                </a:pathLst>
              </a:custGeom>
              <a:solidFill>
                <a:srgbClr val="ff33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367" name=""/>
            <p:cNvGrpSpPr/>
            <p:nvPr/>
          </p:nvGrpSpPr>
          <p:grpSpPr>
            <a:xfrm>
              <a:off x="8699400" y="2514600"/>
              <a:ext cx="214560" cy="241200"/>
              <a:chOff x="8699400" y="2514600"/>
              <a:chExt cx="214560" cy="241200"/>
            </a:xfrm>
          </p:grpSpPr>
          <p:sp>
            <p:nvSpPr>
              <p:cNvPr id="368" name=""/>
              <p:cNvSpPr/>
              <p:nvPr/>
            </p:nvSpPr>
            <p:spPr>
              <a:xfrm>
                <a:off x="8726040" y="2514600"/>
                <a:ext cx="160920" cy="160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753040" y="2541240"/>
                <a:ext cx="107280" cy="107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8699400" y="2701800"/>
                <a:ext cx="214560" cy="53640"/>
              </a:xfrm>
              <a:custGeom>
                <a:avLst/>
                <a:gdLst>
                  <a:gd name="textAreaLeft" fmla="*/ 35640 w 214560"/>
                  <a:gd name="textAreaRight" fmla="*/ 178920 w 214560"/>
                  <a:gd name="textAreaTop" fmla="*/ 8640 h 53640"/>
                  <a:gd name="textAreaBottom" fmla="*/ 45000 h 53640"/>
                </a:gdLst>
                <a:ahLst/>
                <a:rect l="textAreaLeft" t="textAreaTop" r="textAreaRight" b="textAreaBottom"/>
                <a:pathLst>
                  <a:path w="21600" h="21600">
                    <a:moveTo>
                      <a:pt x="0" y="0"/>
                    </a:moveTo>
                    <a:lnTo>
                      <a:pt x="21600" y="0"/>
                    </a:lnTo>
                    <a:lnTo>
                      <a:pt x="18282" y="21600"/>
                    </a:lnTo>
                    <a:lnTo>
                      <a:pt x="3318" y="21600"/>
                    </a:lnTo>
                    <a:close/>
                  </a:path>
                </a:pathLst>
              </a:custGeom>
              <a:solidFill>
                <a:srgbClr val="ff33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sp>
        <p:nvSpPr>
          <p:cNvPr id="371" name=""/>
          <p:cNvSpPr/>
          <p:nvPr/>
        </p:nvSpPr>
        <p:spPr>
          <a:xfrm>
            <a:off x="5808600" y="4616280"/>
            <a:ext cx="333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a.bb.cc.00 – aa.bb.cc.FF</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D06DF21-0A8C-4E72-BB74-334A89CE5F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as Sapphire Fast: A Bandwidth-Limited Scanner</a:t>
            </a: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Red's scanner is latency-limited</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many threads: send SYN to random address, </a:t>
            </a:r>
            <a:br>
              <a:rPr sz="2000"/>
            </a:br>
            <a:r>
              <a:rPr b="0" lang="en-US" sz="2000" spc="-1" strike="noStrike">
                <a:solidFill>
                  <a:srgbClr val="000000"/>
                </a:solidFill>
                <a:latin typeface="Times New Roman"/>
              </a:rPr>
              <a:t>wait for response or timeout</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Red </a:t>
            </a:r>
            <a:r>
              <a:rPr b="0" lang="en-US" sz="2000" spc="-1" strike="noStrike">
                <a:solidFill>
                  <a:srgbClr val="000000"/>
                </a:solidFill>
                <a:latin typeface="Symbol"/>
                <a:ea typeface="Symbol"/>
              </a:rPr>
              <a:t></a:t>
            </a:r>
            <a:r>
              <a:rPr b="0" lang="en-US" sz="2000" spc="-1" strike="noStrike">
                <a:solidFill>
                  <a:srgbClr val="000000"/>
                </a:solidFill>
                <a:latin typeface="Times New Roman"/>
              </a:rPr>
              <a:t> ~6 scans/second, </a:t>
            </a:r>
            <a:endParaRPr b="0" lang="en-US" sz="2000" spc="-1" strike="noStrike">
              <a:solidFill>
                <a:srgbClr val="000000"/>
              </a:solidFill>
              <a:latin typeface="Times New Roman"/>
            </a:endParaRPr>
          </a:p>
          <a:p>
            <a:pPr lvl="2" marL="109728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ulation doubles about every 40 minutes</a:t>
            </a:r>
            <a:endParaRPr b="0" lang="en-US" sz="18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Sapphire copy sent infectious packets at maximum rate</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b upload bandwidth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280 scans/second</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 Mb upload bandwidth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28,000 scans/second</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reasonably small TCP worm can spread like Sapphire</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s to construct SYNs at line rate, receive ACKs in a separate thread</a:t>
            </a:r>
            <a:endParaRPr b="0" lang="en-US" sz="2000" spc="-1" strike="noStrike">
              <a:solidFill>
                <a:srgbClr val="000000"/>
              </a:solidFill>
              <a:latin typeface="Times New Roman"/>
            </a:endParaRPr>
          </a:p>
        </p:txBody>
      </p:sp>
      <p:grpSp>
        <p:nvGrpSpPr>
          <p:cNvPr id="374" name=""/>
          <p:cNvGrpSpPr/>
          <p:nvPr/>
        </p:nvGrpSpPr>
        <p:grpSpPr>
          <a:xfrm>
            <a:off x="8458200" y="2006640"/>
            <a:ext cx="496800" cy="583920"/>
            <a:chOff x="8458200" y="2006640"/>
            <a:chExt cx="496800" cy="583920"/>
          </a:xfrm>
        </p:grpSpPr>
        <p:sp>
          <p:nvSpPr>
            <p:cNvPr id="375" name=""/>
            <p:cNvSpPr/>
            <p:nvPr/>
          </p:nvSpPr>
          <p:spPr>
            <a:xfrm>
              <a:off x="8520120" y="2006640"/>
              <a:ext cx="372600" cy="38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582040" y="2071440"/>
              <a:ext cx="248400" cy="2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8458200" y="2460960"/>
              <a:ext cx="496800" cy="129600"/>
            </a:xfrm>
            <a:custGeom>
              <a:avLst/>
              <a:gdLst>
                <a:gd name="textAreaLeft" fmla="*/ 82440 w 496800"/>
                <a:gd name="textAreaRight" fmla="*/ 414360 w 496800"/>
                <a:gd name="textAreaTop" fmla="*/ 21600 h 129600"/>
                <a:gd name="textAreaBottom" fmla="*/ 108000 h 12960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378" name=""/>
          <p:cNvGrpSpPr/>
          <p:nvPr/>
        </p:nvGrpSpPr>
        <p:grpSpPr>
          <a:xfrm>
            <a:off x="6553080" y="2057400"/>
            <a:ext cx="777600" cy="913680"/>
            <a:chOff x="6553080" y="2057400"/>
            <a:chExt cx="777600" cy="913680"/>
          </a:xfrm>
        </p:grpSpPr>
        <p:sp>
          <p:nvSpPr>
            <p:cNvPr id="379" name=""/>
            <p:cNvSpPr/>
            <p:nvPr/>
          </p:nvSpPr>
          <p:spPr>
            <a:xfrm>
              <a:off x="6649920" y="2057400"/>
              <a:ext cx="583560" cy="608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46760" y="2158560"/>
              <a:ext cx="389880" cy="405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6553080" y="2767320"/>
              <a:ext cx="777600" cy="203400"/>
            </a:xfrm>
            <a:custGeom>
              <a:avLst/>
              <a:gdLst>
                <a:gd name="textAreaLeft" fmla="*/ 129240 w 777600"/>
                <a:gd name="textAreaRight" fmla="*/ 648360 w 777600"/>
                <a:gd name="textAreaTop" fmla="*/ 33840 h 203400"/>
                <a:gd name="textAreaBottom" fmla="*/ 169560 h 20340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7238880" y="2387520"/>
            <a:ext cx="12956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7238520" y="2209680"/>
            <a:ext cx="1295640" cy="25560"/>
          </a:xfrm>
          <a:prstGeom prst="line">
            <a:avLst/>
          </a:prstGeom>
          <a:ln w="38160">
            <a:solidFill>
              <a:srgbClr val="ff3300"/>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84" name=""/>
          <p:cNvGrpSpPr/>
          <p:nvPr/>
        </p:nvGrpSpPr>
        <p:grpSpPr>
          <a:xfrm>
            <a:off x="6553080" y="4419720"/>
            <a:ext cx="777600" cy="913680"/>
            <a:chOff x="6553080" y="4419720"/>
            <a:chExt cx="777600" cy="913680"/>
          </a:xfrm>
        </p:grpSpPr>
        <p:sp>
          <p:nvSpPr>
            <p:cNvPr id="385" name=""/>
            <p:cNvSpPr/>
            <p:nvPr/>
          </p:nvSpPr>
          <p:spPr>
            <a:xfrm>
              <a:off x="6649920" y="4419720"/>
              <a:ext cx="583560" cy="6084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46760" y="4520880"/>
              <a:ext cx="389880" cy="405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553080" y="5129640"/>
              <a:ext cx="777600" cy="203400"/>
            </a:xfrm>
            <a:custGeom>
              <a:avLst/>
              <a:gdLst>
                <a:gd name="textAreaLeft" fmla="*/ 129240 w 777600"/>
                <a:gd name="textAreaRight" fmla="*/ 648360 w 777600"/>
                <a:gd name="textAreaTop" fmla="*/ 33840 h 203400"/>
                <a:gd name="textAreaBottom" fmla="*/ 169560 h 20340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8" name=""/>
          <p:cNvGrpSpPr/>
          <p:nvPr/>
        </p:nvGrpSpPr>
        <p:grpSpPr>
          <a:xfrm>
            <a:off x="7238880" y="4343040"/>
            <a:ext cx="1295640" cy="838440"/>
            <a:chOff x="7238880" y="4343040"/>
            <a:chExt cx="1295640" cy="838440"/>
          </a:xfrm>
        </p:grpSpPr>
        <p:sp>
          <p:nvSpPr>
            <p:cNvPr id="389" name=""/>
            <p:cNvSpPr/>
            <p:nvPr/>
          </p:nvSpPr>
          <p:spPr>
            <a:xfrm>
              <a:off x="7238880" y="4572000"/>
              <a:ext cx="12956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238880" y="4572000"/>
              <a:ext cx="1143000" cy="304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315200" y="4572000"/>
              <a:ext cx="106668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7238880" y="4343040"/>
              <a:ext cx="990720" cy="228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8534520" y="4292640"/>
            <a:ext cx="496800" cy="583920"/>
            <a:chOff x="8534520" y="4292640"/>
            <a:chExt cx="496800" cy="583920"/>
          </a:xfrm>
        </p:grpSpPr>
        <p:sp>
          <p:nvSpPr>
            <p:cNvPr id="394" name=""/>
            <p:cNvSpPr/>
            <p:nvPr/>
          </p:nvSpPr>
          <p:spPr>
            <a:xfrm>
              <a:off x="8596440" y="4292640"/>
              <a:ext cx="372600" cy="38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658360" y="4357440"/>
              <a:ext cx="248400" cy="2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8534520" y="4746960"/>
              <a:ext cx="496800" cy="129600"/>
            </a:xfrm>
            <a:custGeom>
              <a:avLst/>
              <a:gdLst>
                <a:gd name="textAreaLeft" fmla="*/ 82440 w 496800"/>
                <a:gd name="textAreaRight" fmla="*/ 414360 w 496800"/>
                <a:gd name="textAreaTop" fmla="*/ 21600 h 129600"/>
                <a:gd name="textAreaBottom" fmla="*/ 108000 h 12960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3142BA3-FF62-4B55-B9AB-F9929B7A1A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8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Many Ways to 0wn the Internet?</a:t>
            </a:r>
            <a:br>
              <a:rPr sz="3600"/>
            </a:br>
            <a:r>
              <a:rPr b="0" lang="en-US" sz="2800" spc="-1" strike="noStrike">
                <a:solidFill>
                  <a:srgbClr val="000000"/>
                </a:solidFill>
                <a:latin typeface="Times New Roman"/>
              </a:rPr>
              <a:t>Towards Viable Worm Defenses</a:t>
            </a:r>
            <a:endParaRPr b="0" lang="en-US" sz="2800" spc="-1" strike="noStrike">
              <a:solidFill>
                <a:srgbClr val="000000"/>
              </a:solidFill>
              <a:latin typeface="Times New Roman"/>
            </a:endParaRPr>
          </a:p>
        </p:txBody>
      </p:sp>
      <p:sp>
        <p:nvSpPr>
          <p:cNvPr id="98" name=""/>
          <p:cNvSpPr/>
          <p:nvPr/>
        </p:nvSpPr>
        <p:spPr>
          <a:xfrm>
            <a:off x="838080" y="2590920"/>
            <a:ext cx="7391520" cy="237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icholas Weaver</a:t>
            </a:r>
            <a:endParaRPr b="0" lang="en-US" sz="4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C Berkeley</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 D Candidate, EECS, UC Berkeley</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tional Computer Science Institut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weaver@cs.berkeley.edu</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2601ABA3-D67C-4D4B-87E4-80E9657D06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 Target Lists:</a:t>
            </a:r>
            <a:br>
              <a:rPr sz="4400"/>
            </a:br>
            <a:r>
              <a:rPr b="0" lang="en-US" sz="4400" spc="-1" strike="noStrike">
                <a:solidFill>
                  <a:srgbClr val="000000"/>
                </a:solidFill>
                <a:latin typeface="Times New Roman"/>
              </a:rPr>
              <a:t>Metaserver Worms</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0720"/>
            <a:ext cx="601992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systems use a "metaserver", a server for information about other serv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mes:  Use as a matchmaker for local serv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gle: Query google to find web serv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ows Active Directory: Maintains the "Network Neighborhoo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 can leverage these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 a query to find new targ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new victim also constructs querie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s a divide-and-conquer infection strategy</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strategy, not yet seen</a:t>
            </a:r>
            <a:endParaRPr b="0" lang="en-US" sz="2400" spc="-1" strike="noStrike">
              <a:solidFill>
                <a:srgbClr val="000000"/>
              </a:solidFill>
              <a:latin typeface="Times New Roman"/>
            </a:endParaRPr>
          </a:p>
        </p:txBody>
      </p:sp>
      <p:grpSp>
        <p:nvGrpSpPr>
          <p:cNvPr id="399" name=""/>
          <p:cNvGrpSpPr/>
          <p:nvPr/>
        </p:nvGrpSpPr>
        <p:grpSpPr>
          <a:xfrm>
            <a:off x="6400800" y="2057400"/>
            <a:ext cx="2438280" cy="4114440"/>
            <a:chOff x="6400800" y="2057400"/>
            <a:chExt cx="2438280" cy="4114440"/>
          </a:xfrm>
        </p:grpSpPr>
        <p:sp>
          <p:nvSpPr>
            <p:cNvPr id="400" name=""/>
            <p:cNvSpPr/>
            <p:nvPr/>
          </p:nvSpPr>
          <p:spPr>
            <a:xfrm>
              <a:off x="6858000" y="2057400"/>
              <a:ext cx="1447920" cy="5335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server</a:t>
              </a:r>
              <a:endParaRPr b="0" lang="en-US" sz="2000" spc="-1" strike="noStrike">
                <a:solidFill>
                  <a:srgbClr val="000000"/>
                </a:solidFill>
                <a:latin typeface="Times New Roman"/>
              </a:endParaRPr>
            </a:p>
          </p:txBody>
        </p:sp>
        <p:sp>
          <p:nvSpPr>
            <p:cNvPr id="401" name=""/>
            <p:cNvSpPr/>
            <p:nvPr/>
          </p:nvSpPr>
          <p:spPr>
            <a:xfrm>
              <a:off x="8077320" y="4267080"/>
              <a:ext cx="761760" cy="5335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402" name=""/>
            <p:cNvSpPr/>
            <p:nvPr/>
          </p:nvSpPr>
          <p:spPr>
            <a:xfrm>
              <a:off x="8077320" y="3505320"/>
              <a:ext cx="761760" cy="53316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403" name=""/>
            <p:cNvSpPr/>
            <p:nvPr/>
          </p:nvSpPr>
          <p:spPr>
            <a:xfrm>
              <a:off x="8077320" y="2743200"/>
              <a:ext cx="761760" cy="5335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404" name=""/>
            <p:cNvGrpSpPr/>
            <p:nvPr/>
          </p:nvGrpSpPr>
          <p:grpSpPr>
            <a:xfrm>
              <a:off x="7315200" y="5486400"/>
              <a:ext cx="609480" cy="685440"/>
              <a:chOff x="7315200" y="5486400"/>
              <a:chExt cx="609480" cy="685440"/>
            </a:xfrm>
          </p:grpSpPr>
          <p:sp>
            <p:nvSpPr>
              <p:cNvPr id="405" name=""/>
              <p:cNvSpPr/>
              <p:nvPr/>
            </p:nvSpPr>
            <p:spPr>
              <a:xfrm>
                <a:off x="7391160" y="5486400"/>
                <a:ext cx="4568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467480" y="5562720"/>
                <a:ext cx="30420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7315200" y="601920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7620120" y="25909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8077320" y="4952880"/>
              <a:ext cx="761760" cy="5335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410" name=""/>
            <p:cNvSpPr/>
            <p:nvPr/>
          </p:nvSpPr>
          <p:spPr>
            <a:xfrm>
              <a:off x="7620120" y="259092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620120" y="2590920"/>
              <a:ext cx="45720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620120" y="2590920"/>
              <a:ext cx="45720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0800" y="4267080"/>
              <a:ext cx="762120" cy="5335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414" name=""/>
            <p:cNvSpPr/>
            <p:nvPr/>
          </p:nvSpPr>
          <p:spPr>
            <a:xfrm>
              <a:off x="6400800" y="3505320"/>
              <a:ext cx="762120" cy="53316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415" name=""/>
            <p:cNvSpPr/>
            <p:nvPr/>
          </p:nvSpPr>
          <p:spPr>
            <a:xfrm>
              <a:off x="6400800" y="2743200"/>
              <a:ext cx="762120" cy="5335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416" name=""/>
            <p:cNvSpPr/>
            <p:nvPr/>
          </p:nvSpPr>
          <p:spPr>
            <a:xfrm>
              <a:off x="6400800" y="4952880"/>
              <a:ext cx="762120" cy="5335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417" name=""/>
            <p:cNvSpPr/>
            <p:nvPr/>
          </p:nvSpPr>
          <p:spPr>
            <a:xfrm flipH="1">
              <a:off x="7162920" y="25909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7162920" y="259092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7162920" y="2590920"/>
              <a:ext cx="45720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7162920" y="2590920"/>
              <a:ext cx="45720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 name=""/>
          <p:cNvSpPr/>
          <p:nvPr/>
        </p:nvSpPr>
        <p:spPr>
          <a:xfrm flipV="1">
            <a:off x="7620120" y="2895120"/>
            <a:ext cx="0" cy="259092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620120" y="2590920"/>
            <a:ext cx="0" cy="281916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7620120" y="4495680"/>
            <a:ext cx="457200" cy="914400"/>
          </a:xfrm>
          <a:prstGeom prst="line">
            <a:avLst/>
          </a:prstGeom>
          <a:ln cap="rnd" w="381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A0B666-A3FA-4135-BE27-C8396E3807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Fast Are </a:t>
            </a:r>
            <a:br>
              <a:rPr sz="4400"/>
            </a:br>
            <a:r>
              <a:rPr b="0" lang="en-US" sz="4400" spc="-1" strike="noStrike">
                <a:solidFill>
                  <a:srgbClr val="000000"/>
                </a:solidFill>
                <a:latin typeface="Times New Roman"/>
              </a:rPr>
              <a:t>Metaserver Worms?</a:t>
            </a: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7924680" cy="22860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me Metaserver: Use to attack a small population (eg, all Half-Life servers)</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inute to infect all targets</a:t>
            </a:r>
            <a:endParaRPr b="0" lang="en-US" sz="20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gle: Use to enhance a scanning web worm</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worm conducts initial queries to find URLs</a:t>
            </a:r>
            <a:endParaRPr b="0" lang="en-US" sz="20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Active Directory: Nearly essential for CIFS worm</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ed for the login process, only works in the corporate Intranet</a:t>
            </a:r>
            <a:endParaRPr b="0" lang="en-US" sz="2000" spc="-1" strike="noStrike">
              <a:solidFill>
                <a:srgbClr val="000000"/>
              </a:solidFill>
              <a:latin typeface="Times New Roman"/>
            </a:endParaRPr>
          </a:p>
        </p:txBody>
      </p:sp>
      <p:graphicFrame>
        <p:nvGraphicFramePr>
          <p:cNvPr id="426" name=""/>
          <p:cNvGraphicFramePr/>
          <p:nvPr/>
        </p:nvGraphicFramePr>
        <p:xfrm>
          <a:off x="838080" y="4371840"/>
          <a:ext cx="7372440" cy="2409840"/>
        </p:xfrm>
        <a:graphic>
          <a:graphicData uri="http://schemas.openxmlformats.org/presentationml/2006/ole">
            <p:oleObj progId="Excel.Sheet.12" r:id="rId1" spid="">
              <p:embed/>
              <p:pic>
                <p:nvPicPr>
                  <p:cNvPr id="427" name="" descr=""/>
                  <p:cNvPicPr/>
                  <p:nvPr/>
                </p:nvPicPr>
                <p:blipFill>
                  <a:blip r:embed="rId2"/>
                  <a:stretch/>
                </p:blipFill>
                <p:spPr>
                  <a:xfrm>
                    <a:off x="838080" y="4371840"/>
                    <a:ext cx="7372440" cy="2409840"/>
                  </a:xfrm>
                  <a:prstGeom prst="rect">
                    <a:avLst/>
                  </a:prstGeom>
                  <a:ln w="0">
                    <a:noFill/>
                  </a:ln>
                </p:spPr>
              </p:pic>
            </p:oleObj>
          </a:graphicData>
        </a:graphic>
      </p:graphicFrame>
      <p:sp>
        <p:nvSpPr>
          <p:cNvPr id="4" name="PlaceHolder 3"/>
          <p:cNvSpPr>
            <a:spLocks noGrp="1"/>
          </p:cNvSpPr>
          <p:nvPr>
            <p:ph type="sldNum" idx="3"/>
          </p:nvPr>
        </p:nvSpPr>
        <p:spPr/>
        <p:txBody>
          <a:bodyPr/>
          <a:p>
            <a:fld id="{C0A74A29-49B9-4EBE-AE0F-FB0E3CFFF1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generated Target Lists:</a:t>
            </a:r>
            <a:br>
              <a:rPr sz="4400"/>
            </a:br>
            <a:r>
              <a:rPr b="0" lang="en-US" sz="4400" spc="-1" strike="noStrike">
                <a:solidFill>
                  <a:srgbClr val="000000"/>
                </a:solidFill>
                <a:latin typeface="Times New Roman"/>
              </a:rPr>
              <a:t>Hitlisting &amp; Flash Worms</a:t>
            </a: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7696080" cy="2748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 starts with a list of vulnerable machin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ects using a divide-and-conquer strategy, O(lg(n)) time</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hitlist (eg 5000 machines) accelerates a scanning worm</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ete hitlist of all machines ("Flash" worm) takes &lt;1 minut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list doesn't need to be perfectly precis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Strategy, not yet see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ggest problem is acquiring the hitlist, see “How to 0wn”</a:t>
            </a:r>
            <a:endParaRPr b="0" lang="en-US" sz="2000" spc="-1" strike="noStrike">
              <a:solidFill>
                <a:srgbClr val="000000"/>
              </a:solidFill>
              <a:latin typeface="Times New Roman"/>
            </a:endParaRPr>
          </a:p>
        </p:txBody>
      </p:sp>
      <p:graphicFrame>
        <p:nvGraphicFramePr>
          <p:cNvPr id="430" name=""/>
          <p:cNvGraphicFramePr/>
          <p:nvPr/>
        </p:nvGraphicFramePr>
        <p:xfrm>
          <a:off x="838080" y="4371840"/>
          <a:ext cx="7373880" cy="2409840"/>
        </p:xfrm>
        <a:graphic>
          <a:graphicData uri="http://schemas.openxmlformats.org/presentationml/2006/ole">
            <p:oleObj progId="Excel.Sheet.12" r:id="rId1" spid="">
              <p:embed/>
              <p:pic>
                <p:nvPicPr>
                  <p:cNvPr id="431" name="" descr=""/>
                  <p:cNvPicPr/>
                  <p:nvPr/>
                </p:nvPicPr>
                <p:blipFill>
                  <a:blip r:embed="rId2"/>
                  <a:stretch/>
                </p:blipFill>
                <p:spPr>
                  <a:xfrm>
                    <a:off x="838080" y="4371840"/>
                    <a:ext cx="7373880" cy="2409840"/>
                  </a:xfrm>
                  <a:prstGeom prst="rect">
                    <a:avLst/>
                  </a:prstGeom>
                  <a:ln w="0">
                    <a:noFill/>
                  </a:ln>
                </p:spPr>
              </p:pic>
            </p:oleObj>
          </a:graphicData>
        </a:graphic>
      </p:graphicFrame>
      <p:sp>
        <p:nvSpPr>
          <p:cNvPr id="4" name="PlaceHolder 3"/>
          <p:cNvSpPr>
            <a:spLocks noGrp="1"/>
          </p:cNvSpPr>
          <p:nvPr>
            <p:ph type="sldNum" idx="3"/>
          </p:nvPr>
        </p:nvSpPr>
        <p:spPr/>
        <p:txBody>
          <a:bodyPr/>
          <a:p>
            <a:fld id="{023569C4-F4DC-4556-86AD-D22FC6EC3B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l Target Lists:</a:t>
            </a:r>
            <a:br>
              <a:rPr sz="4400"/>
            </a:br>
            <a:r>
              <a:rPr b="0" lang="en-US" sz="4400" spc="-1" strike="noStrike">
                <a:solidFill>
                  <a:srgbClr val="000000"/>
                </a:solidFill>
                <a:latin typeface="Times New Roman"/>
              </a:rPr>
              <a:t>Topological Information</a:t>
            </a: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for local information to find new targ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s on disk and in cach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 address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h/known_hos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biquitous in mail wor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recent mail worms are more aggressive at finding new address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s of the Morris wor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space was too sparse for scanning to work</a:t>
            </a:r>
            <a:endParaRPr b="0" lang="en-US" sz="2400" spc="-1" strike="noStrike">
              <a:solidFill>
                <a:srgbClr val="000000"/>
              </a:solidFill>
              <a:latin typeface="Times New Roman"/>
            </a:endParaRPr>
          </a:p>
        </p:txBody>
      </p:sp>
      <p:grpSp>
        <p:nvGrpSpPr>
          <p:cNvPr id="434" name=""/>
          <p:cNvGrpSpPr/>
          <p:nvPr/>
        </p:nvGrpSpPr>
        <p:grpSpPr>
          <a:xfrm>
            <a:off x="5638680" y="2514600"/>
            <a:ext cx="1296360" cy="1522800"/>
            <a:chOff x="5638680" y="2514600"/>
            <a:chExt cx="1296360" cy="1522800"/>
          </a:xfrm>
        </p:grpSpPr>
        <p:sp>
          <p:nvSpPr>
            <p:cNvPr id="435" name=""/>
            <p:cNvSpPr/>
            <p:nvPr/>
          </p:nvSpPr>
          <p:spPr>
            <a:xfrm>
              <a:off x="5801040" y="2514600"/>
              <a:ext cx="972360" cy="1015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962320" y="2683800"/>
              <a:ext cx="648720" cy="67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5638680" y="3699000"/>
              <a:ext cx="1296360" cy="338040"/>
            </a:xfrm>
            <a:custGeom>
              <a:avLst/>
              <a:gdLst>
                <a:gd name="textAreaLeft" fmla="*/ 215640 w 1296360"/>
                <a:gd name="textAreaRight" fmla="*/ 1080720 w 1296360"/>
                <a:gd name="textAreaTop" fmla="*/ 56160 h 338040"/>
                <a:gd name="textAreaBottom" fmla="*/ 281880 h 33804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8001000" y="2438280"/>
            <a:ext cx="496800" cy="583920"/>
            <a:chOff x="8001000" y="2438280"/>
            <a:chExt cx="496800" cy="583920"/>
          </a:xfrm>
        </p:grpSpPr>
        <p:sp>
          <p:nvSpPr>
            <p:cNvPr id="439" name=""/>
            <p:cNvSpPr/>
            <p:nvPr/>
          </p:nvSpPr>
          <p:spPr>
            <a:xfrm>
              <a:off x="8062920" y="2438280"/>
              <a:ext cx="372600" cy="38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124840" y="2503080"/>
              <a:ext cx="248400" cy="2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8001000" y="2892600"/>
              <a:ext cx="496800" cy="129600"/>
            </a:xfrm>
            <a:custGeom>
              <a:avLst/>
              <a:gdLst>
                <a:gd name="textAreaLeft" fmla="*/ 82440 w 496800"/>
                <a:gd name="textAreaRight" fmla="*/ 414360 w 496800"/>
                <a:gd name="textAreaTop" fmla="*/ 21600 h 129600"/>
                <a:gd name="textAreaBottom" fmla="*/ 108000 h 12960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442" name=""/>
          <p:cNvGrpSpPr/>
          <p:nvPr/>
        </p:nvGrpSpPr>
        <p:grpSpPr>
          <a:xfrm>
            <a:off x="7620120" y="3200400"/>
            <a:ext cx="496800" cy="583920"/>
            <a:chOff x="7620120" y="3200400"/>
            <a:chExt cx="496800" cy="583920"/>
          </a:xfrm>
        </p:grpSpPr>
        <p:sp>
          <p:nvSpPr>
            <p:cNvPr id="443" name=""/>
            <p:cNvSpPr/>
            <p:nvPr/>
          </p:nvSpPr>
          <p:spPr>
            <a:xfrm>
              <a:off x="7682040" y="3200400"/>
              <a:ext cx="372600" cy="38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743960" y="3265200"/>
              <a:ext cx="248400" cy="25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7620120" y="3654720"/>
              <a:ext cx="496800" cy="129600"/>
            </a:xfrm>
            <a:custGeom>
              <a:avLst/>
              <a:gdLst>
                <a:gd name="textAreaLeft" fmla="*/ 82440 w 496800"/>
                <a:gd name="textAreaRight" fmla="*/ 414360 w 496800"/>
                <a:gd name="textAreaTop" fmla="*/ 21600 h 129600"/>
                <a:gd name="textAreaBottom" fmla="*/ 108000 h 12960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446" name=""/>
          <p:cNvGrpSpPr/>
          <p:nvPr/>
        </p:nvGrpSpPr>
        <p:grpSpPr>
          <a:xfrm>
            <a:off x="5638680" y="2514600"/>
            <a:ext cx="1296360" cy="1522440"/>
            <a:chOff x="5638680" y="2514600"/>
            <a:chExt cx="1296360" cy="1522440"/>
          </a:xfrm>
        </p:grpSpPr>
        <p:sp>
          <p:nvSpPr>
            <p:cNvPr id="447" name=""/>
            <p:cNvSpPr/>
            <p:nvPr/>
          </p:nvSpPr>
          <p:spPr>
            <a:xfrm>
              <a:off x="5799960" y="2514600"/>
              <a:ext cx="973080" cy="1014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961600" y="2683440"/>
              <a:ext cx="649800" cy="675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5638680" y="3697920"/>
              <a:ext cx="1296360" cy="338760"/>
            </a:xfrm>
            <a:custGeom>
              <a:avLst/>
              <a:gdLst>
                <a:gd name="textAreaLeft" fmla="*/ 215640 w 1296360"/>
                <a:gd name="textAreaRight" fmla="*/ 1080720 w 1296360"/>
                <a:gd name="textAreaTop" fmla="*/ 56160 h 338760"/>
                <a:gd name="textAreaBottom" fmla="*/ 282600 h 33876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0" name=""/>
          <p:cNvSpPr/>
          <p:nvPr/>
        </p:nvSpPr>
        <p:spPr>
          <a:xfrm>
            <a:off x="6553080" y="2819520"/>
            <a:ext cx="1524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553080" y="2971800"/>
            <a:ext cx="11430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 name=""/>
          <p:cNvGrpSpPr/>
          <p:nvPr/>
        </p:nvGrpSpPr>
        <p:grpSpPr>
          <a:xfrm>
            <a:off x="6553080" y="2438280"/>
            <a:ext cx="1944720" cy="1345680"/>
            <a:chOff x="6553080" y="2438280"/>
            <a:chExt cx="1944720" cy="1345680"/>
          </a:xfrm>
        </p:grpSpPr>
        <p:grpSp>
          <p:nvGrpSpPr>
            <p:cNvPr id="453" name=""/>
            <p:cNvGrpSpPr/>
            <p:nvPr/>
          </p:nvGrpSpPr>
          <p:grpSpPr>
            <a:xfrm>
              <a:off x="7620120" y="3200400"/>
              <a:ext cx="496800" cy="583560"/>
              <a:chOff x="7620120" y="3200400"/>
              <a:chExt cx="496800" cy="583560"/>
            </a:xfrm>
          </p:grpSpPr>
          <p:sp>
            <p:nvSpPr>
              <p:cNvPr id="454" name=""/>
              <p:cNvSpPr/>
              <p:nvPr/>
            </p:nvSpPr>
            <p:spPr>
              <a:xfrm>
                <a:off x="7682040" y="3200400"/>
                <a:ext cx="372960" cy="388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743960" y="3265200"/>
                <a:ext cx="249120" cy="258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7620120" y="3653640"/>
                <a:ext cx="496800" cy="129960"/>
              </a:xfrm>
              <a:custGeom>
                <a:avLst/>
                <a:gdLst>
                  <a:gd name="textAreaLeft" fmla="*/ 82440 w 496800"/>
                  <a:gd name="textAreaRight" fmla="*/ 414360 w 496800"/>
                  <a:gd name="textAreaTop" fmla="*/ 21600 h 129960"/>
                  <a:gd name="textAreaBottom" fmla="*/ 108360 h 12996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457" name=""/>
            <p:cNvGrpSpPr/>
            <p:nvPr/>
          </p:nvGrpSpPr>
          <p:grpSpPr>
            <a:xfrm>
              <a:off x="8001000" y="2438280"/>
              <a:ext cx="496800" cy="583560"/>
              <a:chOff x="8001000" y="2438280"/>
              <a:chExt cx="496800" cy="583560"/>
            </a:xfrm>
          </p:grpSpPr>
          <p:sp>
            <p:nvSpPr>
              <p:cNvPr id="458" name=""/>
              <p:cNvSpPr/>
              <p:nvPr/>
            </p:nvSpPr>
            <p:spPr>
              <a:xfrm>
                <a:off x="8062920" y="2438280"/>
                <a:ext cx="372960" cy="388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124840" y="2503080"/>
                <a:ext cx="249120" cy="258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8001000" y="2891520"/>
                <a:ext cx="496800" cy="129960"/>
              </a:xfrm>
              <a:custGeom>
                <a:avLst/>
                <a:gdLst>
                  <a:gd name="textAreaLeft" fmla="*/ 82440 w 496800"/>
                  <a:gd name="textAreaRight" fmla="*/ 414360 w 496800"/>
                  <a:gd name="textAreaTop" fmla="*/ 21600 h 129960"/>
                  <a:gd name="textAreaBottom" fmla="*/ 108360 h 12996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461" name=""/>
            <p:cNvSpPr/>
            <p:nvPr/>
          </p:nvSpPr>
          <p:spPr>
            <a:xfrm>
              <a:off x="6553080" y="2819520"/>
              <a:ext cx="15242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553080" y="2971800"/>
              <a:ext cx="114300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2D2FBDF-96B6-4A57-87EF-0D8B5CDAD5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Fast are </a:t>
            </a:r>
            <a:br>
              <a:rPr sz="4400"/>
            </a:br>
            <a:r>
              <a:rPr b="0" lang="en-US" sz="4400" spc="-1" strike="noStrike">
                <a:solidFill>
                  <a:srgbClr val="000000"/>
                </a:solidFill>
                <a:latin typeface="Times New Roman"/>
              </a:rPr>
              <a:t>Topological Worms?</a:t>
            </a:r>
            <a:endParaRPr b="0" lang="en-US" sz="4400" spc="-1" strike="noStrike">
              <a:solidFill>
                <a:srgbClr val="000000"/>
              </a:solidFill>
              <a:latin typeface="Times New Roman"/>
            </a:endParaRPr>
          </a:p>
        </p:txBody>
      </p:sp>
      <p:sp>
        <p:nvSpPr>
          <p:cNvPr id="464"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s on the topology </a:t>
            </a:r>
            <a:r>
              <a:rPr b="0" i="1" lang="en-US" sz="2400" spc="-1" strike="noStrike">
                <a:solidFill>
                  <a:srgbClr val="000000"/>
                </a:solidFill>
                <a:latin typeface="Times New Roman"/>
              </a:rPr>
              <a:t>G = (V, 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ulnerable machines are vertices, </a:t>
            </a:r>
            <a:br>
              <a:rPr sz="2000"/>
            </a:br>
            <a:r>
              <a:rPr b="0" lang="en-US" sz="2000" spc="-1" strike="noStrike">
                <a:solidFill>
                  <a:srgbClr val="000000"/>
                </a:solidFill>
                <a:latin typeface="Times New Roman"/>
              </a:rPr>
              <a:t>edges are local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to infect is a function of the shortest paths from the initial point of infection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law or similar graph (KaZa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s greatly on the parameters, </a:t>
            </a:r>
            <a:br>
              <a:rPr sz="2000"/>
            </a:br>
            <a:r>
              <a:rPr b="0" lang="en-US" sz="2000" spc="-1" strike="noStrike">
                <a:solidFill>
                  <a:srgbClr val="000000"/>
                </a:solidFill>
                <a:latin typeface="Times New Roman"/>
              </a:rPr>
              <a:t>but generally very, VERY fa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d-style network (ring with fing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lg(n)) time, using the fingers</a:t>
            </a:r>
            <a:endParaRPr b="0" lang="en-US" sz="2000" spc="-1" strike="noStrike">
              <a:solidFill>
                <a:srgbClr val="000000"/>
              </a:solidFill>
              <a:latin typeface="Times New Roman"/>
            </a:endParaRPr>
          </a:p>
        </p:txBody>
      </p:sp>
      <p:grpSp>
        <p:nvGrpSpPr>
          <p:cNvPr id="465" name=""/>
          <p:cNvGrpSpPr/>
          <p:nvPr/>
        </p:nvGrpSpPr>
        <p:grpSpPr>
          <a:xfrm>
            <a:off x="5791320" y="2286000"/>
            <a:ext cx="3047760" cy="3809880"/>
            <a:chOff x="5791320" y="2286000"/>
            <a:chExt cx="3047760" cy="3809880"/>
          </a:xfrm>
        </p:grpSpPr>
        <p:grpSp>
          <p:nvGrpSpPr>
            <p:cNvPr id="466" name=""/>
            <p:cNvGrpSpPr/>
            <p:nvPr/>
          </p:nvGrpSpPr>
          <p:grpSpPr>
            <a:xfrm>
              <a:off x="6019920" y="2743200"/>
              <a:ext cx="407880" cy="457200"/>
              <a:chOff x="6019920" y="2743200"/>
              <a:chExt cx="407880" cy="457200"/>
            </a:xfrm>
          </p:grpSpPr>
          <p:sp>
            <p:nvSpPr>
              <p:cNvPr id="467" name=""/>
              <p:cNvSpPr/>
              <p:nvPr/>
            </p:nvSpPr>
            <p:spPr>
              <a:xfrm>
                <a:off x="6070680" y="274320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121800" y="279396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6019920" y="30988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70" name=""/>
            <p:cNvGrpSpPr/>
            <p:nvPr/>
          </p:nvGrpSpPr>
          <p:grpSpPr>
            <a:xfrm>
              <a:off x="6526080" y="2514600"/>
              <a:ext cx="408240" cy="457200"/>
              <a:chOff x="6526080" y="2514600"/>
              <a:chExt cx="408240" cy="457200"/>
            </a:xfrm>
          </p:grpSpPr>
          <p:sp>
            <p:nvSpPr>
              <p:cNvPr id="471" name=""/>
              <p:cNvSpPr/>
              <p:nvPr/>
            </p:nvSpPr>
            <p:spPr>
              <a:xfrm>
                <a:off x="6576840" y="2514600"/>
                <a:ext cx="3060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627960" y="2565360"/>
                <a:ext cx="20376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6526080" y="2870280"/>
                <a:ext cx="408240" cy="101520"/>
              </a:xfrm>
              <a:custGeom>
                <a:avLst/>
                <a:gdLst>
                  <a:gd name="textAreaLeft" fmla="*/ 67680 w 408240"/>
                  <a:gd name="textAreaRight" fmla="*/ 340560 w 40824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74" name=""/>
            <p:cNvGrpSpPr/>
            <p:nvPr/>
          </p:nvGrpSpPr>
          <p:grpSpPr>
            <a:xfrm>
              <a:off x="7086600" y="2286000"/>
              <a:ext cx="407880" cy="457200"/>
              <a:chOff x="7086600" y="2286000"/>
              <a:chExt cx="407880" cy="457200"/>
            </a:xfrm>
          </p:grpSpPr>
          <p:sp>
            <p:nvSpPr>
              <p:cNvPr id="475" name=""/>
              <p:cNvSpPr/>
              <p:nvPr/>
            </p:nvSpPr>
            <p:spPr>
              <a:xfrm>
                <a:off x="7137360" y="228600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188480" y="233676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7086600" y="26416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78" name=""/>
            <p:cNvGrpSpPr/>
            <p:nvPr/>
          </p:nvGrpSpPr>
          <p:grpSpPr>
            <a:xfrm>
              <a:off x="7745400" y="2438280"/>
              <a:ext cx="407880" cy="457200"/>
              <a:chOff x="7745400" y="2438280"/>
              <a:chExt cx="407880" cy="457200"/>
            </a:xfrm>
          </p:grpSpPr>
          <p:sp>
            <p:nvSpPr>
              <p:cNvPr id="479" name=""/>
              <p:cNvSpPr/>
              <p:nvPr/>
            </p:nvSpPr>
            <p:spPr>
              <a:xfrm>
                <a:off x="7796160" y="243828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847280" y="248904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745400" y="279396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82" name=""/>
            <p:cNvGrpSpPr/>
            <p:nvPr/>
          </p:nvGrpSpPr>
          <p:grpSpPr>
            <a:xfrm>
              <a:off x="8278920" y="2743200"/>
              <a:ext cx="407880" cy="457200"/>
              <a:chOff x="8278920" y="2743200"/>
              <a:chExt cx="407880" cy="457200"/>
            </a:xfrm>
          </p:grpSpPr>
          <p:sp>
            <p:nvSpPr>
              <p:cNvPr id="483" name=""/>
              <p:cNvSpPr/>
              <p:nvPr/>
            </p:nvSpPr>
            <p:spPr>
              <a:xfrm>
                <a:off x="8329680" y="274320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380800" y="279396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278920" y="30988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86" name=""/>
            <p:cNvGrpSpPr/>
            <p:nvPr/>
          </p:nvGrpSpPr>
          <p:grpSpPr>
            <a:xfrm>
              <a:off x="8431200" y="3352680"/>
              <a:ext cx="407880" cy="457200"/>
              <a:chOff x="8431200" y="3352680"/>
              <a:chExt cx="407880" cy="457200"/>
            </a:xfrm>
          </p:grpSpPr>
          <p:sp>
            <p:nvSpPr>
              <p:cNvPr id="487" name=""/>
              <p:cNvSpPr/>
              <p:nvPr/>
            </p:nvSpPr>
            <p:spPr>
              <a:xfrm>
                <a:off x="8481960" y="335268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533080" y="340344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8431200" y="370836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90" name=""/>
            <p:cNvGrpSpPr/>
            <p:nvPr/>
          </p:nvGrpSpPr>
          <p:grpSpPr>
            <a:xfrm>
              <a:off x="8431200" y="3962520"/>
              <a:ext cx="407880" cy="457200"/>
              <a:chOff x="8431200" y="3962520"/>
              <a:chExt cx="407880" cy="457200"/>
            </a:xfrm>
          </p:grpSpPr>
          <p:sp>
            <p:nvSpPr>
              <p:cNvPr id="491" name=""/>
              <p:cNvSpPr/>
              <p:nvPr/>
            </p:nvSpPr>
            <p:spPr>
              <a:xfrm>
                <a:off x="8481960" y="396252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533080" y="401328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8431200" y="431820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94" name=""/>
            <p:cNvGrpSpPr/>
            <p:nvPr/>
          </p:nvGrpSpPr>
          <p:grpSpPr>
            <a:xfrm>
              <a:off x="8431200" y="4648320"/>
              <a:ext cx="407880" cy="457200"/>
              <a:chOff x="8431200" y="4648320"/>
              <a:chExt cx="407880" cy="457200"/>
            </a:xfrm>
          </p:grpSpPr>
          <p:sp>
            <p:nvSpPr>
              <p:cNvPr id="495" name=""/>
              <p:cNvSpPr/>
              <p:nvPr/>
            </p:nvSpPr>
            <p:spPr>
              <a:xfrm>
                <a:off x="8481960" y="464832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533080" y="469908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8431200" y="500400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98" name=""/>
            <p:cNvGrpSpPr/>
            <p:nvPr/>
          </p:nvGrpSpPr>
          <p:grpSpPr>
            <a:xfrm>
              <a:off x="8381880" y="5257800"/>
              <a:ext cx="408240" cy="457200"/>
              <a:chOff x="8381880" y="5257800"/>
              <a:chExt cx="408240" cy="457200"/>
            </a:xfrm>
          </p:grpSpPr>
          <p:sp>
            <p:nvSpPr>
              <p:cNvPr id="499" name=""/>
              <p:cNvSpPr/>
              <p:nvPr/>
            </p:nvSpPr>
            <p:spPr>
              <a:xfrm>
                <a:off x="8432640" y="5257800"/>
                <a:ext cx="3060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483760" y="5308560"/>
                <a:ext cx="20376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8381880" y="5613480"/>
                <a:ext cx="408240" cy="101520"/>
              </a:xfrm>
              <a:custGeom>
                <a:avLst/>
                <a:gdLst>
                  <a:gd name="textAreaLeft" fmla="*/ 67680 w 408240"/>
                  <a:gd name="textAreaRight" fmla="*/ 340560 w 40824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02" name=""/>
            <p:cNvGrpSpPr/>
            <p:nvPr/>
          </p:nvGrpSpPr>
          <p:grpSpPr>
            <a:xfrm>
              <a:off x="7924680" y="5486400"/>
              <a:ext cx="408240" cy="457200"/>
              <a:chOff x="7924680" y="5486400"/>
              <a:chExt cx="408240" cy="457200"/>
            </a:xfrm>
          </p:grpSpPr>
          <p:sp>
            <p:nvSpPr>
              <p:cNvPr id="503" name=""/>
              <p:cNvSpPr/>
              <p:nvPr/>
            </p:nvSpPr>
            <p:spPr>
              <a:xfrm>
                <a:off x="7975440" y="5486400"/>
                <a:ext cx="3060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8026560" y="5537160"/>
                <a:ext cx="20376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7924680" y="5842080"/>
                <a:ext cx="408240" cy="101520"/>
              </a:xfrm>
              <a:custGeom>
                <a:avLst/>
                <a:gdLst>
                  <a:gd name="textAreaLeft" fmla="*/ 67680 w 408240"/>
                  <a:gd name="textAreaRight" fmla="*/ 340560 w 40824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06" name=""/>
            <p:cNvGrpSpPr/>
            <p:nvPr/>
          </p:nvGrpSpPr>
          <p:grpSpPr>
            <a:xfrm>
              <a:off x="7391520" y="5638680"/>
              <a:ext cx="407880" cy="457200"/>
              <a:chOff x="7391520" y="5638680"/>
              <a:chExt cx="407880" cy="457200"/>
            </a:xfrm>
          </p:grpSpPr>
          <p:sp>
            <p:nvSpPr>
              <p:cNvPr id="507" name=""/>
              <p:cNvSpPr/>
              <p:nvPr/>
            </p:nvSpPr>
            <p:spPr>
              <a:xfrm>
                <a:off x="7442280" y="563868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493400" y="568944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7391520" y="599436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10" name=""/>
            <p:cNvGrpSpPr/>
            <p:nvPr/>
          </p:nvGrpSpPr>
          <p:grpSpPr>
            <a:xfrm>
              <a:off x="6907320" y="5486400"/>
              <a:ext cx="407880" cy="457200"/>
              <a:chOff x="6907320" y="5486400"/>
              <a:chExt cx="407880" cy="457200"/>
            </a:xfrm>
          </p:grpSpPr>
          <p:sp>
            <p:nvSpPr>
              <p:cNvPr id="511" name=""/>
              <p:cNvSpPr/>
              <p:nvPr/>
            </p:nvSpPr>
            <p:spPr>
              <a:xfrm>
                <a:off x="6958080" y="548640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009200" y="553716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6907320" y="58420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14" name=""/>
            <p:cNvGrpSpPr/>
            <p:nvPr/>
          </p:nvGrpSpPr>
          <p:grpSpPr>
            <a:xfrm>
              <a:off x="6477120" y="5257800"/>
              <a:ext cx="407880" cy="457200"/>
              <a:chOff x="6477120" y="5257800"/>
              <a:chExt cx="407880" cy="457200"/>
            </a:xfrm>
          </p:grpSpPr>
          <p:sp>
            <p:nvSpPr>
              <p:cNvPr id="515" name=""/>
              <p:cNvSpPr/>
              <p:nvPr/>
            </p:nvSpPr>
            <p:spPr>
              <a:xfrm>
                <a:off x="6527880" y="525780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579000" y="530856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6477120" y="56134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18" name=""/>
            <p:cNvGrpSpPr/>
            <p:nvPr/>
          </p:nvGrpSpPr>
          <p:grpSpPr>
            <a:xfrm>
              <a:off x="6019920" y="4952880"/>
              <a:ext cx="407880" cy="457200"/>
              <a:chOff x="6019920" y="4952880"/>
              <a:chExt cx="407880" cy="457200"/>
            </a:xfrm>
          </p:grpSpPr>
          <p:sp>
            <p:nvSpPr>
              <p:cNvPr id="519" name=""/>
              <p:cNvSpPr/>
              <p:nvPr/>
            </p:nvSpPr>
            <p:spPr>
              <a:xfrm>
                <a:off x="6070680" y="495288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121800" y="500364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6019920" y="530856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22" name=""/>
            <p:cNvGrpSpPr/>
            <p:nvPr/>
          </p:nvGrpSpPr>
          <p:grpSpPr>
            <a:xfrm>
              <a:off x="5867280" y="4419720"/>
              <a:ext cx="408240" cy="457200"/>
              <a:chOff x="5867280" y="4419720"/>
              <a:chExt cx="408240" cy="457200"/>
            </a:xfrm>
          </p:grpSpPr>
          <p:sp>
            <p:nvSpPr>
              <p:cNvPr id="523" name=""/>
              <p:cNvSpPr/>
              <p:nvPr/>
            </p:nvSpPr>
            <p:spPr>
              <a:xfrm>
                <a:off x="5918040" y="4419720"/>
                <a:ext cx="3060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969160" y="4470480"/>
                <a:ext cx="20376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867280" y="4775400"/>
                <a:ext cx="408240" cy="101520"/>
              </a:xfrm>
              <a:custGeom>
                <a:avLst/>
                <a:gdLst>
                  <a:gd name="textAreaLeft" fmla="*/ 67680 w 408240"/>
                  <a:gd name="textAreaRight" fmla="*/ 340560 w 40824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26" name=""/>
            <p:cNvGrpSpPr/>
            <p:nvPr/>
          </p:nvGrpSpPr>
          <p:grpSpPr>
            <a:xfrm>
              <a:off x="5791320" y="3886200"/>
              <a:ext cx="407880" cy="457200"/>
              <a:chOff x="5791320" y="3886200"/>
              <a:chExt cx="407880" cy="457200"/>
            </a:xfrm>
          </p:grpSpPr>
          <p:sp>
            <p:nvSpPr>
              <p:cNvPr id="527" name=""/>
              <p:cNvSpPr/>
              <p:nvPr/>
            </p:nvSpPr>
            <p:spPr>
              <a:xfrm>
                <a:off x="5842080" y="3886200"/>
                <a:ext cx="3056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893200" y="3936960"/>
                <a:ext cx="20340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5791320" y="42418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30" name=""/>
            <p:cNvGrpSpPr/>
            <p:nvPr/>
          </p:nvGrpSpPr>
          <p:grpSpPr>
            <a:xfrm>
              <a:off x="5840280" y="3352680"/>
              <a:ext cx="408240" cy="457200"/>
              <a:chOff x="5840280" y="3352680"/>
              <a:chExt cx="408240" cy="457200"/>
            </a:xfrm>
          </p:grpSpPr>
          <p:sp>
            <p:nvSpPr>
              <p:cNvPr id="531" name=""/>
              <p:cNvSpPr/>
              <p:nvPr/>
            </p:nvSpPr>
            <p:spPr>
              <a:xfrm>
                <a:off x="5891040" y="3352680"/>
                <a:ext cx="3060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942160" y="3403440"/>
                <a:ext cx="20376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5840280" y="3708360"/>
                <a:ext cx="408240" cy="101520"/>
              </a:xfrm>
              <a:custGeom>
                <a:avLst/>
                <a:gdLst>
                  <a:gd name="textAreaLeft" fmla="*/ 67680 w 408240"/>
                  <a:gd name="textAreaRight" fmla="*/ 340560 w 40824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534" name=""/>
            <p:cNvSpPr/>
            <p:nvPr/>
          </p:nvSpPr>
          <p:spPr>
            <a:xfrm flipV="1">
              <a:off x="6248520" y="27428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248520" y="2895480"/>
              <a:ext cx="22096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6705720" y="251424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315200" y="24382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8001000" y="259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534520" y="2895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610480" y="3505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8610480" y="4114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8534160" y="48006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8305560" y="54100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a:off x="7772040" y="563868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5" name=""/>
            <p:cNvSpPr/>
            <p:nvPr/>
          </p:nvSpPr>
          <p:spPr>
            <a:xfrm flipH="1" flipV="1">
              <a:off x="7238520" y="5638680"/>
              <a:ext cx="381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flipV="1">
              <a:off x="6781320" y="5486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flipV="1">
              <a:off x="6400440" y="5105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flipV="1">
              <a:off x="6172200" y="48765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H="1" flipV="1">
              <a:off x="6019560" y="43430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6019920" y="380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6019920" y="32000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705720" y="2666880"/>
              <a:ext cx="914400" cy="28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6248160" y="2438280"/>
              <a:ext cx="10666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6781320" y="2590920"/>
              <a:ext cx="121932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6248520" y="2895480"/>
              <a:ext cx="22860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H="1" flipV="1">
              <a:off x="7391520" y="2742840"/>
              <a:ext cx="12189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flipV="1">
              <a:off x="6171840" y="3504960"/>
              <a:ext cx="2438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flipV="1">
              <a:off x="6095520" y="4038120"/>
              <a:ext cx="2514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flipV="1">
              <a:off x="6933960" y="2971440"/>
              <a:ext cx="160020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H="1" flipV="1">
              <a:off x="8001000" y="2895480"/>
              <a:ext cx="7632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V="1">
              <a:off x="7620120" y="3580920"/>
              <a:ext cx="83808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flipV="1">
              <a:off x="6324120" y="3200040"/>
              <a:ext cx="76212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6629400" y="3200400"/>
              <a:ext cx="167652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V="1">
              <a:off x="6248520" y="2743200"/>
              <a:ext cx="114300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V="1">
              <a:off x="6095880" y="411480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019920" y="4038480"/>
              <a:ext cx="1143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019920" y="3505320"/>
              <a:ext cx="19810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7086600" y="2286000"/>
            <a:ext cx="407880" cy="457200"/>
            <a:chOff x="7086600" y="2286000"/>
            <a:chExt cx="407880" cy="457200"/>
          </a:xfrm>
        </p:grpSpPr>
        <p:sp>
          <p:nvSpPr>
            <p:cNvPr id="569" name=""/>
            <p:cNvSpPr/>
            <p:nvPr/>
          </p:nvSpPr>
          <p:spPr>
            <a:xfrm>
              <a:off x="7137360" y="228600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7188480" y="233676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7086600" y="26416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72" name=""/>
          <p:cNvGrpSpPr/>
          <p:nvPr/>
        </p:nvGrpSpPr>
        <p:grpSpPr>
          <a:xfrm>
            <a:off x="5867280" y="2438280"/>
            <a:ext cx="2286000" cy="2438640"/>
            <a:chOff x="5867280" y="2438280"/>
            <a:chExt cx="2286000" cy="2438640"/>
          </a:xfrm>
        </p:grpSpPr>
        <p:grpSp>
          <p:nvGrpSpPr>
            <p:cNvPr id="573" name=""/>
            <p:cNvGrpSpPr/>
            <p:nvPr/>
          </p:nvGrpSpPr>
          <p:grpSpPr>
            <a:xfrm>
              <a:off x="7745400" y="2438280"/>
              <a:ext cx="407880" cy="457200"/>
              <a:chOff x="7745400" y="2438280"/>
              <a:chExt cx="407880" cy="457200"/>
            </a:xfrm>
          </p:grpSpPr>
          <p:sp>
            <p:nvSpPr>
              <p:cNvPr id="574" name=""/>
              <p:cNvSpPr/>
              <p:nvPr/>
            </p:nvSpPr>
            <p:spPr>
              <a:xfrm>
                <a:off x="7796160" y="243828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847280" y="248904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7745400" y="279396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77" name=""/>
            <p:cNvGrpSpPr/>
            <p:nvPr/>
          </p:nvGrpSpPr>
          <p:grpSpPr>
            <a:xfrm>
              <a:off x="5867280" y="4419720"/>
              <a:ext cx="408240" cy="457200"/>
              <a:chOff x="5867280" y="4419720"/>
              <a:chExt cx="408240" cy="457200"/>
            </a:xfrm>
          </p:grpSpPr>
          <p:sp>
            <p:nvSpPr>
              <p:cNvPr id="578" name=""/>
              <p:cNvSpPr/>
              <p:nvPr/>
            </p:nvSpPr>
            <p:spPr>
              <a:xfrm>
                <a:off x="5918040" y="4419720"/>
                <a:ext cx="30600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969160" y="4470480"/>
                <a:ext cx="20376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5867280" y="4775400"/>
                <a:ext cx="408240" cy="101520"/>
              </a:xfrm>
              <a:custGeom>
                <a:avLst/>
                <a:gdLst>
                  <a:gd name="textAreaLeft" fmla="*/ 67680 w 408240"/>
                  <a:gd name="textAreaRight" fmla="*/ 340560 w 40824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grpSp>
        <p:nvGrpSpPr>
          <p:cNvPr id="581" name=""/>
          <p:cNvGrpSpPr/>
          <p:nvPr/>
        </p:nvGrpSpPr>
        <p:grpSpPr>
          <a:xfrm>
            <a:off x="5791320" y="2743200"/>
            <a:ext cx="3047760" cy="2971800"/>
            <a:chOff x="5791320" y="2743200"/>
            <a:chExt cx="3047760" cy="2971800"/>
          </a:xfrm>
        </p:grpSpPr>
        <p:grpSp>
          <p:nvGrpSpPr>
            <p:cNvPr id="582" name=""/>
            <p:cNvGrpSpPr/>
            <p:nvPr/>
          </p:nvGrpSpPr>
          <p:grpSpPr>
            <a:xfrm>
              <a:off x="6477120" y="5257800"/>
              <a:ext cx="407880" cy="457200"/>
              <a:chOff x="6477120" y="5257800"/>
              <a:chExt cx="407880" cy="457200"/>
            </a:xfrm>
          </p:grpSpPr>
          <p:sp>
            <p:nvSpPr>
              <p:cNvPr id="583" name=""/>
              <p:cNvSpPr/>
              <p:nvPr/>
            </p:nvSpPr>
            <p:spPr>
              <a:xfrm>
                <a:off x="6527880" y="525780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579000" y="530856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477120" y="56134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86" name=""/>
            <p:cNvGrpSpPr/>
            <p:nvPr/>
          </p:nvGrpSpPr>
          <p:grpSpPr>
            <a:xfrm>
              <a:off x="8278920" y="2743200"/>
              <a:ext cx="407880" cy="457200"/>
              <a:chOff x="8278920" y="2743200"/>
              <a:chExt cx="407880" cy="457200"/>
            </a:xfrm>
          </p:grpSpPr>
          <p:sp>
            <p:nvSpPr>
              <p:cNvPr id="587" name=""/>
              <p:cNvSpPr/>
              <p:nvPr/>
            </p:nvSpPr>
            <p:spPr>
              <a:xfrm>
                <a:off x="8329680" y="274320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380800" y="279396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8278920" y="30988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90" name=""/>
            <p:cNvGrpSpPr/>
            <p:nvPr/>
          </p:nvGrpSpPr>
          <p:grpSpPr>
            <a:xfrm>
              <a:off x="8431200" y="3962520"/>
              <a:ext cx="407880" cy="457200"/>
              <a:chOff x="8431200" y="3962520"/>
              <a:chExt cx="407880" cy="457200"/>
            </a:xfrm>
          </p:grpSpPr>
          <p:sp>
            <p:nvSpPr>
              <p:cNvPr id="591" name=""/>
              <p:cNvSpPr/>
              <p:nvPr/>
            </p:nvSpPr>
            <p:spPr>
              <a:xfrm>
                <a:off x="8481960" y="396252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8533080" y="401328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8431200" y="431820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94" name=""/>
            <p:cNvGrpSpPr/>
            <p:nvPr/>
          </p:nvGrpSpPr>
          <p:grpSpPr>
            <a:xfrm>
              <a:off x="5791320" y="3886200"/>
              <a:ext cx="407880" cy="457200"/>
              <a:chOff x="5791320" y="3886200"/>
              <a:chExt cx="407880" cy="457200"/>
            </a:xfrm>
          </p:grpSpPr>
          <p:sp>
            <p:nvSpPr>
              <p:cNvPr id="595" name=""/>
              <p:cNvSpPr/>
              <p:nvPr/>
            </p:nvSpPr>
            <p:spPr>
              <a:xfrm>
                <a:off x="5842080" y="388620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893200" y="393696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5791320" y="42418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grpSp>
        <p:nvGrpSpPr>
          <p:cNvPr id="598" name=""/>
          <p:cNvGrpSpPr/>
          <p:nvPr/>
        </p:nvGrpSpPr>
        <p:grpSpPr>
          <a:xfrm>
            <a:off x="5840280" y="3352680"/>
            <a:ext cx="2998800" cy="2590920"/>
            <a:chOff x="5840280" y="3352680"/>
            <a:chExt cx="2998800" cy="2590920"/>
          </a:xfrm>
        </p:grpSpPr>
        <p:grpSp>
          <p:nvGrpSpPr>
            <p:cNvPr id="599" name=""/>
            <p:cNvGrpSpPr/>
            <p:nvPr/>
          </p:nvGrpSpPr>
          <p:grpSpPr>
            <a:xfrm>
              <a:off x="5840280" y="3352680"/>
              <a:ext cx="408240" cy="457200"/>
              <a:chOff x="5840280" y="3352680"/>
              <a:chExt cx="408240" cy="457200"/>
            </a:xfrm>
          </p:grpSpPr>
          <p:sp>
            <p:nvSpPr>
              <p:cNvPr id="600" name=""/>
              <p:cNvSpPr/>
              <p:nvPr/>
            </p:nvSpPr>
            <p:spPr>
              <a:xfrm>
                <a:off x="5891040" y="3352680"/>
                <a:ext cx="30600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942160" y="3403440"/>
                <a:ext cx="20376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5840280" y="3708360"/>
                <a:ext cx="408240" cy="101520"/>
              </a:xfrm>
              <a:custGeom>
                <a:avLst/>
                <a:gdLst>
                  <a:gd name="textAreaLeft" fmla="*/ 67680 w 408240"/>
                  <a:gd name="textAreaRight" fmla="*/ 340560 w 40824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03" name=""/>
            <p:cNvGrpSpPr/>
            <p:nvPr/>
          </p:nvGrpSpPr>
          <p:grpSpPr>
            <a:xfrm>
              <a:off x="6019920" y="4952880"/>
              <a:ext cx="407880" cy="457200"/>
              <a:chOff x="6019920" y="4952880"/>
              <a:chExt cx="407880" cy="457200"/>
            </a:xfrm>
          </p:grpSpPr>
          <p:sp>
            <p:nvSpPr>
              <p:cNvPr id="604" name=""/>
              <p:cNvSpPr/>
              <p:nvPr/>
            </p:nvSpPr>
            <p:spPr>
              <a:xfrm>
                <a:off x="6070680" y="495288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121800" y="500364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V="1">
                <a:off x="6019920" y="530856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07" name=""/>
            <p:cNvGrpSpPr/>
            <p:nvPr/>
          </p:nvGrpSpPr>
          <p:grpSpPr>
            <a:xfrm>
              <a:off x="8431200" y="3352680"/>
              <a:ext cx="407880" cy="457200"/>
              <a:chOff x="8431200" y="3352680"/>
              <a:chExt cx="407880" cy="457200"/>
            </a:xfrm>
          </p:grpSpPr>
          <p:sp>
            <p:nvSpPr>
              <p:cNvPr id="608" name=""/>
              <p:cNvSpPr/>
              <p:nvPr/>
            </p:nvSpPr>
            <p:spPr>
              <a:xfrm>
                <a:off x="8481960" y="335268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533080" y="340344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8431200" y="370836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11" name=""/>
            <p:cNvGrpSpPr/>
            <p:nvPr/>
          </p:nvGrpSpPr>
          <p:grpSpPr>
            <a:xfrm>
              <a:off x="8431200" y="4648320"/>
              <a:ext cx="407880" cy="457200"/>
              <a:chOff x="8431200" y="4648320"/>
              <a:chExt cx="407880" cy="457200"/>
            </a:xfrm>
          </p:grpSpPr>
          <p:sp>
            <p:nvSpPr>
              <p:cNvPr id="612" name=""/>
              <p:cNvSpPr/>
              <p:nvPr/>
            </p:nvSpPr>
            <p:spPr>
              <a:xfrm>
                <a:off x="8481960" y="464832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8533080" y="469908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8431200" y="500400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15" name=""/>
            <p:cNvGrpSpPr/>
            <p:nvPr/>
          </p:nvGrpSpPr>
          <p:grpSpPr>
            <a:xfrm>
              <a:off x="6907320" y="5486400"/>
              <a:ext cx="407880" cy="457200"/>
              <a:chOff x="6907320" y="5486400"/>
              <a:chExt cx="407880" cy="457200"/>
            </a:xfrm>
          </p:grpSpPr>
          <p:sp>
            <p:nvSpPr>
              <p:cNvPr id="616" name=""/>
              <p:cNvSpPr/>
              <p:nvPr/>
            </p:nvSpPr>
            <p:spPr>
              <a:xfrm>
                <a:off x="6958080" y="548640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009200" y="553716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V="1">
                <a:off x="6907320" y="58420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grpSp>
        <p:nvGrpSpPr>
          <p:cNvPr id="619" name=""/>
          <p:cNvGrpSpPr/>
          <p:nvPr/>
        </p:nvGrpSpPr>
        <p:grpSpPr>
          <a:xfrm>
            <a:off x="6019920" y="2743200"/>
            <a:ext cx="2770200" cy="3200400"/>
            <a:chOff x="6019920" y="2743200"/>
            <a:chExt cx="2770200" cy="3200400"/>
          </a:xfrm>
        </p:grpSpPr>
        <p:grpSp>
          <p:nvGrpSpPr>
            <p:cNvPr id="620" name=""/>
            <p:cNvGrpSpPr/>
            <p:nvPr/>
          </p:nvGrpSpPr>
          <p:grpSpPr>
            <a:xfrm>
              <a:off x="7924680" y="5486400"/>
              <a:ext cx="408240" cy="457200"/>
              <a:chOff x="7924680" y="5486400"/>
              <a:chExt cx="408240" cy="457200"/>
            </a:xfrm>
          </p:grpSpPr>
          <p:sp>
            <p:nvSpPr>
              <p:cNvPr id="621" name=""/>
              <p:cNvSpPr/>
              <p:nvPr/>
            </p:nvSpPr>
            <p:spPr>
              <a:xfrm>
                <a:off x="7975440" y="5486400"/>
                <a:ext cx="30600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8026560" y="5537160"/>
                <a:ext cx="20376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7924680" y="5842080"/>
                <a:ext cx="408240" cy="101520"/>
              </a:xfrm>
              <a:custGeom>
                <a:avLst/>
                <a:gdLst>
                  <a:gd name="textAreaLeft" fmla="*/ 67680 w 408240"/>
                  <a:gd name="textAreaRight" fmla="*/ 340560 w 40824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24" name=""/>
            <p:cNvGrpSpPr/>
            <p:nvPr/>
          </p:nvGrpSpPr>
          <p:grpSpPr>
            <a:xfrm>
              <a:off x="8381880" y="5257800"/>
              <a:ext cx="408240" cy="457200"/>
              <a:chOff x="8381880" y="5257800"/>
              <a:chExt cx="408240" cy="457200"/>
            </a:xfrm>
          </p:grpSpPr>
          <p:sp>
            <p:nvSpPr>
              <p:cNvPr id="625" name=""/>
              <p:cNvSpPr/>
              <p:nvPr/>
            </p:nvSpPr>
            <p:spPr>
              <a:xfrm>
                <a:off x="8432640" y="5257800"/>
                <a:ext cx="30600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8483760" y="5308560"/>
                <a:ext cx="20376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381880" y="5613480"/>
                <a:ext cx="408240" cy="101520"/>
              </a:xfrm>
              <a:custGeom>
                <a:avLst/>
                <a:gdLst>
                  <a:gd name="textAreaLeft" fmla="*/ 67680 w 408240"/>
                  <a:gd name="textAreaRight" fmla="*/ 340560 w 40824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28" name=""/>
            <p:cNvGrpSpPr/>
            <p:nvPr/>
          </p:nvGrpSpPr>
          <p:grpSpPr>
            <a:xfrm>
              <a:off x="6019920" y="2743200"/>
              <a:ext cx="407880" cy="457200"/>
              <a:chOff x="6019920" y="2743200"/>
              <a:chExt cx="407880" cy="457200"/>
            </a:xfrm>
          </p:grpSpPr>
          <p:sp>
            <p:nvSpPr>
              <p:cNvPr id="629" name=""/>
              <p:cNvSpPr/>
              <p:nvPr/>
            </p:nvSpPr>
            <p:spPr>
              <a:xfrm>
                <a:off x="6070680" y="274320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121800" y="279396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6019920" y="309888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grpSp>
        <p:nvGrpSpPr>
          <p:cNvPr id="632" name=""/>
          <p:cNvGrpSpPr/>
          <p:nvPr/>
        </p:nvGrpSpPr>
        <p:grpSpPr>
          <a:xfrm>
            <a:off x="6526080" y="2514600"/>
            <a:ext cx="1273320" cy="3581280"/>
            <a:chOff x="6526080" y="2514600"/>
            <a:chExt cx="1273320" cy="3581280"/>
          </a:xfrm>
        </p:grpSpPr>
        <p:grpSp>
          <p:nvGrpSpPr>
            <p:cNvPr id="633" name=""/>
            <p:cNvGrpSpPr/>
            <p:nvPr/>
          </p:nvGrpSpPr>
          <p:grpSpPr>
            <a:xfrm>
              <a:off x="7391520" y="5638680"/>
              <a:ext cx="407880" cy="457200"/>
              <a:chOff x="7391520" y="5638680"/>
              <a:chExt cx="407880" cy="457200"/>
            </a:xfrm>
          </p:grpSpPr>
          <p:sp>
            <p:nvSpPr>
              <p:cNvPr id="634" name=""/>
              <p:cNvSpPr/>
              <p:nvPr/>
            </p:nvSpPr>
            <p:spPr>
              <a:xfrm>
                <a:off x="7442280" y="5638680"/>
                <a:ext cx="30564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493400" y="5689440"/>
                <a:ext cx="20340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7391520" y="5994360"/>
                <a:ext cx="407880" cy="101520"/>
              </a:xfrm>
              <a:custGeom>
                <a:avLst/>
                <a:gdLst>
                  <a:gd name="textAreaLeft" fmla="*/ 67680 w 407880"/>
                  <a:gd name="textAreaRight" fmla="*/ 340200 w 40788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637" name=""/>
            <p:cNvGrpSpPr/>
            <p:nvPr/>
          </p:nvGrpSpPr>
          <p:grpSpPr>
            <a:xfrm>
              <a:off x="6526080" y="2514600"/>
              <a:ext cx="408240" cy="457200"/>
              <a:chOff x="6526080" y="2514600"/>
              <a:chExt cx="408240" cy="457200"/>
            </a:xfrm>
          </p:grpSpPr>
          <p:sp>
            <p:nvSpPr>
              <p:cNvPr id="638" name=""/>
              <p:cNvSpPr/>
              <p:nvPr/>
            </p:nvSpPr>
            <p:spPr>
              <a:xfrm>
                <a:off x="6576840" y="2514600"/>
                <a:ext cx="30600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627960" y="2565360"/>
                <a:ext cx="203760" cy="203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6526080" y="2870280"/>
                <a:ext cx="408240" cy="101520"/>
              </a:xfrm>
              <a:custGeom>
                <a:avLst/>
                <a:gdLst>
                  <a:gd name="textAreaLeft" fmla="*/ 67680 w 408240"/>
                  <a:gd name="textAreaRight" fmla="*/ 340560 w 408240"/>
                  <a:gd name="textAreaTop" fmla="*/ 16920 h 101520"/>
                  <a:gd name="textAreaBottom" fmla="*/ 84600 h 10152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17F60952-FC01-4E81-8F00-60CD25FC6F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ive Worms &amp;</a:t>
            </a:r>
            <a:br>
              <a:rPr sz="4400"/>
            </a:br>
            <a:r>
              <a:rPr b="0" lang="en-US" sz="4400" spc="-1" strike="noStrike">
                <a:solidFill>
                  <a:srgbClr val="000000"/>
                </a:solidFill>
                <a:latin typeface="Times New Roman"/>
              </a:rPr>
              <a:t>Contagion Strategies</a:t>
            </a:r>
            <a:endParaRPr b="0" lang="en-US" sz="4400" spc="-1" strike="noStrike">
              <a:solidFill>
                <a:srgbClr val="000000"/>
              </a:solidFill>
              <a:latin typeface="Times New Roman"/>
            </a:endParaRPr>
          </a:p>
        </p:txBody>
      </p:sp>
      <p:sp>
        <p:nvSpPr>
          <p:cNvPr id="64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 for information about other targe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clean, an anti-CodeRed II worm</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 for Code Red, respond with counterattack</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mda: Infect vulnerable IE versions with Trojan web-pag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gion strategies (not yet seen, see “How to 0wn”...)</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ggyback infection on normal traffic</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is highly vari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s on normal communication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high steal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to detect the act of infection, not target selec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248A06-2A10-4256-9785-1F68EF6DE2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Does This Mean?</a:t>
            </a: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ink we understand the worm target selection strateg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ppear to be a few ways to discover potential victim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strategies will produce obvious anomal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ing worm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no response connection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es to random addresses around the Interne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lets start working on detectors, analysis tools, and response mechanis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45361B-E165-473C-9CDD-EF92AC8C68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neypots as Worm Detectors</a:t>
            </a:r>
            <a:endParaRPr b="0" lang="en-US" sz="4400" spc="-1" strike="noStrike">
              <a:solidFill>
                <a:srgbClr val="000000"/>
              </a:solidFill>
              <a:latin typeface="Times New Roman"/>
            </a:endParaRPr>
          </a:p>
        </p:txBody>
      </p:sp>
      <p:sp>
        <p:nvSpPr>
          <p:cNvPr id="64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pot: a machine who's sole purpose is to be compromised by an attack</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technology by the Honeynet projec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Niels Provos’s </a:t>
            </a:r>
            <a:r>
              <a:rPr b="1" lang="en-US" sz="2000" spc="-1" strike="noStrike">
                <a:solidFill>
                  <a:srgbClr val="000000"/>
                </a:solidFill>
                <a:latin typeface="Times New Roman"/>
              </a:rPr>
              <a:t>honeyd</a:t>
            </a:r>
            <a:r>
              <a:rPr b="0" lang="en-US" sz="2000" spc="-1" strike="noStrike">
                <a:solidFill>
                  <a:srgbClr val="000000"/>
                </a:solidFill>
                <a:latin typeface="Times New Roman"/>
              </a:rPr>
              <a:t> &amp; Fred Cohen deception</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work of </a:t>
            </a:r>
            <a:r>
              <a:rPr b="0" i="1" lang="en-US" sz="2400" spc="-1" strike="noStrike">
                <a:solidFill>
                  <a:srgbClr val="000000"/>
                </a:solidFill>
                <a:latin typeface="Times New Roman"/>
              </a:rPr>
              <a:t>k </a:t>
            </a:r>
            <a:r>
              <a:rPr b="0" lang="en-US" sz="2400" spc="-1" strike="noStrike">
                <a:solidFill>
                  <a:srgbClr val="000000"/>
                </a:solidFill>
                <a:latin typeface="Times New Roman"/>
              </a:rPr>
              <a:t>vulnerable honeypots is a </a:t>
            </a:r>
            <a:br>
              <a:rPr sz="2400"/>
            </a:br>
            <a:r>
              <a:rPr b="0" lang="en-US" sz="2400" spc="-1" strike="noStrike">
                <a:solidFill>
                  <a:srgbClr val="000000"/>
                </a:solidFill>
                <a:latin typeface="Times New Roman"/>
              </a:rPr>
              <a:t>highly sensitive worm detector</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random worm, Infection is detected after </a:t>
            </a:r>
            <a:br>
              <a:rPr sz="2000"/>
            </a:br>
            <a:r>
              <a:rPr b="0" lang="en-US" sz="2000" spc="-1" strike="noStrike">
                <a:solidFill>
                  <a:srgbClr val="000000"/>
                </a:solidFill>
                <a:latin typeface="Times New Roman"/>
              </a:rPr>
              <a:t>approximately 1/</a:t>
            </a:r>
            <a:r>
              <a:rPr b="0" i="1" lang="en-US" sz="2000" spc="-1" strike="noStrike">
                <a:solidFill>
                  <a:srgbClr val="000000"/>
                </a:solidFill>
                <a:latin typeface="Times New Roman"/>
              </a:rPr>
              <a:t>k</a:t>
            </a:r>
            <a:r>
              <a:rPr b="0" lang="en-US" sz="2000" spc="-1" strike="noStrike">
                <a:solidFill>
                  <a:srgbClr val="000000"/>
                </a:solidFill>
                <a:latin typeface="Times New Roman"/>
              </a:rPr>
              <a:t> of the Internet is infected</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detect) = 1 – ((</a:t>
            </a:r>
            <a:r>
              <a:rPr b="0" i="1" lang="en-US" sz="1800" spc="-1" strike="noStrike">
                <a:solidFill>
                  <a:srgbClr val="000000"/>
                </a:solidFill>
                <a:latin typeface="Times New Roman"/>
              </a:rPr>
              <a:t>V</a:t>
            </a:r>
            <a:r>
              <a:rPr b="0" lang="en-US" sz="1800" spc="-1" strike="noStrike">
                <a:solidFill>
                  <a:srgbClr val="000000"/>
                </a:solidFill>
                <a:latin typeface="Times New Roman"/>
              </a:rPr>
              <a:t>-</a:t>
            </a:r>
            <a:r>
              <a:rPr b="0" i="1" lang="en-US" sz="1800" spc="-1" strike="noStrike">
                <a:solidFill>
                  <a:srgbClr val="000000"/>
                </a:solidFill>
                <a:latin typeface="Times New Roman"/>
              </a:rPr>
              <a:t>k)</a:t>
            </a:r>
            <a:r>
              <a:rPr b="0" lang="en-US" sz="1800" spc="-1" strike="noStrike">
                <a:solidFill>
                  <a:srgbClr val="000000"/>
                </a:solidFill>
                <a:latin typeface="Times New Roman"/>
              </a:rPr>
              <a:t>/</a:t>
            </a:r>
            <a:r>
              <a:rPr b="0" i="1" lang="en-US" sz="1800" spc="-1" strike="noStrike">
                <a:solidFill>
                  <a:srgbClr val="000000"/>
                </a:solidFill>
                <a:latin typeface="Times New Roman"/>
              </a:rPr>
              <a:t>V</a:t>
            </a:r>
            <a:r>
              <a:rPr b="0" lang="en-US" sz="1800" spc="-1" strike="noStrike">
                <a:solidFill>
                  <a:srgbClr val="000000"/>
                </a:solidFill>
                <a:latin typeface="Times New Roman"/>
              </a:rPr>
              <a:t>)</a:t>
            </a:r>
            <a:r>
              <a:rPr b="0" i="1" lang="en-US" sz="1800" spc="-1" strike="noStrike" baseline="30000">
                <a:solidFill>
                  <a:srgbClr val="000000"/>
                </a:solidFill>
                <a:latin typeface="Times New Roman"/>
              </a:rPr>
              <a:t>M</a:t>
            </a:r>
            <a:r>
              <a:rPr b="0" lang="en-US" sz="1800" spc="-1" strike="noStrike">
                <a:solidFill>
                  <a:srgbClr val="000000"/>
                </a:solidFill>
                <a:latin typeface="Times New Roman"/>
              </a:rPr>
              <a:t> after M machines infected</a:t>
            </a:r>
            <a:endParaRPr b="0"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 best to detect scanning and human attackers</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limitation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both in machines and administra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st: need to trust most or all honeypot deployers</a:t>
            </a:r>
            <a:endParaRPr b="0" lang="en-US" sz="2000" spc="-1" strike="noStrike">
              <a:solidFill>
                <a:srgbClr val="000000"/>
              </a:solidFill>
              <a:latin typeface="Times New Roman"/>
            </a:endParaRPr>
          </a:p>
        </p:txBody>
      </p:sp>
      <p:grpSp>
        <p:nvGrpSpPr>
          <p:cNvPr id="647" name=""/>
          <p:cNvGrpSpPr/>
          <p:nvPr/>
        </p:nvGrpSpPr>
        <p:grpSpPr>
          <a:xfrm>
            <a:off x="7010280" y="2362320"/>
            <a:ext cx="1828800" cy="1904760"/>
            <a:chOff x="7010280" y="2362320"/>
            <a:chExt cx="1828800" cy="1904760"/>
          </a:xfrm>
        </p:grpSpPr>
        <p:sp>
          <p:nvSpPr>
            <p:cNvPr id="648" name=""/>
            <p:cNvSpPr/>
            <p:nvPr/>
          </p:nvSpPr>
          <p:spPr>
            <a:xfrm>
              <a:off x="7238880" y="2362320"/>
              <a:ext cx="1371600" cy="1498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7010280" y="3962520"/>
              <a:ext cx="1828800" cy="304560"/>
            </a:xfrm>
            <a:custGeom>
              <a:avLst/>
              <a:gdLst>
                <a:gd name="textAreaLeft" fmla="*/ 304200 w 1828800"/>
                <a:gd name="textAreaRight" fmla="*/ 1524600 w 1828800"/>
                <a:gd name="textAreaTop" fmla="*/ 50400 h 304560"/>
                <a:gd name="textAreaBottom" fmla="*/ 254160 h 304560"/>
              </a:gdLst>
              <a:ahLst/>
              <a:rect l="textAreaLeft" t="textAreaTop" r="textAreaRight" b="textAreaBottom"/>
              <a:pathLst>
                <a:path w="21600" h="21600">
                  <a:moveTo>
                    <a:pt x="0" y="0"/>
                  </a:moveTo>
                  <a:lnTo>
                    <a:pt x="21600" y="0"/>
                  </a:lnTo>
                  <a:lnTo>
                    <a:pt x="18282" y="21600"/>
                  </a:lnTo>
                  <a:lnTo>
                    <a:pt x="3318"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0" name="Pooh_with_Honeypot" descr=""/>
            <p:cNvPicPr/>
            <p:nvPr/>
          </p:nvPicPr>
          <p:blipFill>
            <a:blip r:embed="rId1"/>
            <a:srcRect l="6255" t="7190" r="6255" b="4191"/>
            <a:stretch/>
          </p:blipFill>
          <p:spPr>
            <a:xfrm>
              <a:off x="7435800" y="2590920"/>
              <a:ext cx="979560" cy="1066680"/>
            </a:xfrm>
            <a:prstGeom prst="rect">
              <a:avLst/>
            </a:prstGeom>
            <a:ln w="19080">
              <a:solidFill>
                <a:srgbClr val="000000"/>
              </a:solidFill>
              <a:miter/>
            </a:ln>
          </p:spPr>
        </p:pic>
      </p:grpSp>
      <p:sp>
        <p:nvSpPr>
          <p:cNvPr id="4" name="PlaceHolder 3"/>
          <p:cNvSpPr>
            <a:spLocks noGrp="1"/>
          </p:cNvSpPr>
          <p:nvPr>
            <p:ph type="sldNum" idx="3"/>
          </p:nvPr>
        </p:nvSpPr>
        <p:spPr/>
        <p:txBody>
          <a:bodyPr/>
          <a:p>
            <a:fld id="{230103CA-468C-4D26-929C-E7002D5683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do we desire?</a:t>
            </a:r>
            <a:endParaRPr b="0" lang="en-US" sz="4400" spc="-1" strike="noStrike">
              <a:solidFill>
                <a:srgbClr val="000000"/>
              </a:solidFill>
              <a:latin typeface="Times New Roman"/>
            </a:endParaRPr>
          </a:p>
        </p:txBody>
      </p:sp>
      <p:sp>
        <p:nvSpPr>
          <p:cNvPr id="652" name="PlaceHolder 2"/>
          <p:cNvSpPr>
            <a:spLocks noGrp="1"/>
          </p:cNvSpPr>
          <p:nvPr>
            <p:ph/>
          </p:nvPr>
        </p:nvSpPr>
        <p:spPr>
          <a:xfrm>
            <a:off x="685440" y="1980720"/>
            <a:ext cx="609588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he illusion of distributed honeypot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ed for sensitivity</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s a distributed obscured secret</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he advantages of a central collection of honeypot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ized trust and administra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er cost</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the network endpoints from the honeypot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 system raises the alarm</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rm is used by automatic response systems</a:t>
            </a:r>
            <a:endParaRPr b="0" lang="en-US" sz="1800" spc="-1" strike="noStrike">
              <a:solidFill>
                <a:srgbClr val="000000"/>
              </a:solidFill>
              <a:latin typeface="Times New Roman"/>
            </a:endParaRPr>
          </a:p>
        </p:txBody>
      </p:sp>
      <p:grpSp>
        <p:nvGrpSpPr>
          <p:cNvPr id="653" name=""/>
          <p:cNvGrpSpPr/>
          <p:nvPr/>
        </p:nvGrpSpPr>
        <p:grpSpPr>
          <a:xfrm>
            <a:off x="6095880" y="2286000"/>
            <a:ext cx="2819520" cy="1294560"/>
            <a:chOff x="6095880" y="2286000"/>
            <a:chExt cx="2819520" cy="1294560"/>
          </a:xfrm>
        </p:grpSpPr>
        <p:grpSp>
          <p:nvGrpSpPr>
            <p:cNvPr id="654" name=""/>
            <p:cNvGrpSpPr/>
            <p:nvPr/>
          </p:nvGrpSpPr>
          <p:grpSpPr>
            <a:xfrm>
              <a:off x="6095880" y="2590920"/>
              <a:ext cx="951120" cy="989640"/>
              <a:chOff x="6095880" y="2590920"/>
              <a:chExt cx="951120" cy="989640"/>
            </a:xfrm>
          </p:grpSpPr>
          <p:sp>
            <p:nvSpPr>
              <p:cNvPr id="655" name=""/>
              <p:cNvSpPr/>
              <p:nvPr/>
            </p:nvSpPr>
            <p:spPr>
              <a:xfrm>
                <a:off x="6214680" y="2590920"/>
                <a:ext cx="713160" cy="779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6095880" y="3422160"/>
                <a:ext cx="951120" cy="158040"/>
              </a:xfrm>
              <a:custGeom>
                <a:avLst/>
                <a:gdLst>
                  <a:gd name="textAreaLeft" fmla="*/ 158040 w 951120"/>
                  <a:gd name="textAreaRight" fmla="*/ 793080 w 951120"/>
                  <a:gd name="textAreaTop" fmla="*/ 26280 h 158040"/>
                  <a:gd name="textAreaBottom" fmla="*/ 131760 h 158040"/>
                </a:gdLst>
                <a:ahLst/>
                <a:rect l="textAreaLeft" t="textAreaTop" r="textAreaRight" b="textAreaBottom"/>
                <a:pathLst>
                  <a:path w="21600" h="21600">
                    <a:moveTo>
                      <a:pt x="0" y="0"/>
                    </a:moveTo>
                    <a:lnTo>
                      <a:pt x="21600" y="0"/>
                    </a:lnTo>
                    <a:lnTo>
                      <a:pt x="18282" y="21600"/>
                    </a:lnTo>
                    <a:lnTo>
                      <a:pt x="3318"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7" name="Pooh_with_Honeypot" descr=""/>
              <p:cNvPicPr/>
              <p:nvPr/>
            </p:nvPicPr>
            <p:blipFill>
              <a:blip r:embed="rId1"/>
              <a:srcRect l="6255" t="7190" r="6255" b="4191"/>
              <a:stretch/>
            </p:blipFill>
            <p:spPr>
              <a:xfrm>
                <a:off x="6316920" y="2709720"/>
                <a:ext cx="509400" cy="554400"/>
              </a:xfrm>
              <a:prstGeom prst="rect">
                <a:avLst/>
              </a:prstGeom>
              <a:ln w="19080">
                <a:solidFill>
                  <a:srgbClr val="000000"/>
                </a:solidFill>
                <a:miter/>
              </a:ln>
            </p:spPr>
          </p:pic>
        </p:grpSp>
        <p:grpSp>
          <p:nvGrpSpPr>
            <p:cNvPr id="658" name=""/>
            <p:cNvGrpSpPr/>
            <p:nvPr/>
          </p:nvGrpSpPr>
          <p:grpSpPr>
            <a:xfrm>
              <a:off x="7010280" y="2286000"/>
              <a:ext cx="951120" cy="990720"/>
              <a:chOff x="7010280" y="2286000"/>
              <a:chExt cx="951120" cy="990720"/>
            </a:xfrm>
          </p:grpSpPr>
          <p:sp>
            <p:nvSpPr>
              <p:cNvPr id="659" name=""/>
              <p:cNvSpPr/>
              <p:nvPr/>
            </p:nvSpPr>
            <p:spPr>
              <a:xfrm>
                <a:off x="7129080" y="2286000"/>
                <a:ext cx="713160" cy="77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7010280" y="3118320"/>
                <a:ext cx="951120" cy="158400"/>
              </a:xfrm>
              <a:custGeom>
                <a:avLst/>
                <a:gdLst>
                  <a:gd name="textAreaLeft" fmla="*/ 158040 w 951120"/>
                  <a:gd name="textAreaRight" fmla="*/ 793080 w 951120"/>
                  <a:gd name="textAreaTop" fmla="*/ 26280 h 158400"/>
                  <a:gd name="textAreaBottom" fmla="*/ 132120 h 158400"/>
                </a:gdLst>
                <a:ahLst/>
                <a:rect l="textAreaLeft" t="textAreaTop" r="textAreaRight" b="textAreaBottom"/>
                <a:pathLst>
                  <a:path w="21600" h="21600">
                    <a:moveTo>
                      <a:pt x="0" y="0"/>
                    </a:moveTo>
                    <a:lnTo>
                      <a:pt x="21600" y="0"/>
                    </a:lnTo>
                    <a:lnTo>
                      <a:pt x="18282" y="21600"/>
                    </a:lnTo>
                    <a:lnTo>
                      <a:pt x="3318"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1" name="Pooh_with_Honeypot" descr=""/>
              <p:cNvPicPr/>
              <p:nvPr/>
            </p:nvPicPr>
            <p:blipFill>
              <a:blip r:embed="rId2"/>
              <a:srcRect l="6255" t="7190" r="6255" b="4191"/>
              <a:stretch/>
            </p:blipFill>
            <p:spPr>
              <a:xfrm>
                <a:off x="7231320" y="2404800"/>
                <a:ext cx="509400" cy="554760"/>
              </a:xfrm>
              <a:prstGeom prst="rect">
                <a:avLst/>
              </a:prstGeom>
              <a:ln w="19080">
                <a:solidFill>
                  <a:srgbClr val="000000"/>
                </a:solidFill>
                <a:miter/>
              </a:ln>
            </p:spPr>
          </p:pic>
        </p:grpSp>
        <p:grpSp>
          <p:nvGrpSpPr>
            <p:cNvPr id="662" name=""/>
            <p:cNvGrpSpPr/>
            <p:nvPr/>
          </p:nvGrpSpPr>
          <p:grpSpPr>
            <a:xfrm>
              <a:off x="7964640" y="2514600"/>
              <a:ext cx="950760" cy="990720"/>
              <a:chOff x="7964640" y="2514600"/>
              <a:chExt cx="950760" cy="990720"/>
            </a:xfrm>
          </p:grpSpPr>
          <p:sp>
            <p:nvSpPr>
              <p:cNvPr id="663" name=""/>
              <p:cNvSpPr/>
              <p:nvPr/>
            </p:nvSpPr>
            <p:spPr>
              <a:xfrm>
                <a:off x="8083440" y="2514600"/>
                <a:ext cx="713160" cy="779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7964640" y="3346920"/>
                <a:ext cx="950760" cy="158400"/>
              </a:xfrm>
              <a:custGeom>
                <a:avLst/>
                <a:gdLst>
                  <a:gd name="textAreaLeft" fmla="*/ 158040 w 950760"/>
                  <a:gd name="textAreaRight" fmla="*/ 792720 w 950760"/>
                  <a:gd name="textAreaTop" fmla="*/ 26280 h 158400"/>
                  <a:gd name="textAreaBottom" fmla="*/ 132120 h 158400"/>
                </a:gdLst>
                <a:ahLst/>
                <a:rect l="textAreaLeft" t="textAreaTop" r="textAreaRight" b="textAreaBottom"/>
                <a:pathLst>
                  <a:path w="21600" h="21600">
                    <a:moveTo>
                      <a:pt x="0" y="0"/>
                    </a:moveTo>
                    <a:lnTo>
                      <a:pt x="21600" y="0"/>
                    </a:lnTo>
                    <a:lnTo>
                      <a:pt x="18282" y="21600"/>
                    </a:lnTo>
                    <a:lnTo>
                      <a:pt x="3318"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Pooh_with_Honeypot" descr=""/>
              <p:cNvPicPr/>
              <p:nvPr/>
            </p:nvPicPr>
            <p:blipFill>
              <a:blip r:embed="rId3"/>
              <a:srcRect l="6255" t="7190" r="6255" b="4191"/>
              <a:stretch/>
            </p:blipFill>
            <p:spPr>
              <a:xfrm>
                <a:off x="8185680" y="2633400"/>
                <a:ext cx="509040" cy="554760"/>
              </a:xfrm>
              <a:prstGeom prst="rect">
                <a:avLst/>
              </a:prstGeom>
              <a:ln w="19080">
                <a:solidFill>
                  <a:srgbClr val="000000"/>
                </a:solidFill>
                <a:miter/>
              </a:ln>
            </p:spPr>
          </p:pic>
        </p:grpSp>
      </p:grpSp>
      <p:grpSp>
        <p:nvGrpSpPr>
          <p:cNvPr id="666" name=""/>
          <p:cNvGrpSpPr/>
          <p:nvPr/>
        </p:nvGrpSpPr>
        <p:grpSpPr>
          <a:xfrm>
            <a:off x="6705720" y="4114800"/>
            <a:ext cx="1901520" cy="1980360"/>
            <a:chOff x="6705720" y="4114800"/>
            <a:chExt cx="1901520" cy="1980360"/>
          </a:xfrm>
        </p:grpSpPr>
        <p:sp>
          <p:nvSpPr>
            <p:cNvPr id="667" name=""/>
            <p:cNvSpPr/>
            <p:nvPr/>
          </p:nvSpPr>
          <p:spPr>
            <a:xfrm>
              <a:off x="6943320" y="4114800"/>
              <a:ext cx="1426320" cy="1558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6705720" y="5778360"/>
              <a:ext cx="1901520" cy="316440"/>
            </a:xfrm>
            <a:custGeom>
              <a:avLst/>
              <a:gdLst>
                <a:gd name="textAreaLeft" fmla="*/ 316080 w 1901520"/>
                <a:gd name="textAreaRight" fmla="*/ 1585440 w 1901520"/>
                <a:gd name="textAreaTop" fmla="*/ 52560 h 316440"/>
                <a:gd name="textAreaBottom" fmla="*/ 263880 h 316440"/>
              </a:gdLst>
              <a:ahLst/>
              <a:rect l="textAreaLeft" t="textAreaTop" r="textAreaRight" b="textAreaBottom"/>
              <a:pathLst>
                <a:path w="21600" h="21600">
                  <a:moveTo>
                    <a:pt x="0" y="0"/>
                  </a:moveTo>
                  <a:lnTo>
                    <a:pt x="21600" y="0"/>
                  </a:lnTo>
                  <a:lnTo>
                    <a:pt x="18282" y="21600"/>
                  </a:lnTo>
                  <a:lnTo>
                    <a:pt x="3318" y="216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9" name="Pooh_with_Honeypot" descr=""/>
            <p:cNvPicPr/>
            <p:nvPr/>
          </p:nvPicPr>
          <p:blipFill>
            <a:blip r:embed="rId4"/>
            <a:srcRect l="6255" t="7190" r="6255" b="4191"/>
            <a:stretch/>
          </p:blipFill>
          <p:spPr>
            <a:xfrm>
              <a:off x="7148160" y="4352400"/>
              <a:ext cx="1018440" cy="1109160"/>
            </a:xfrm>
            <a:prstGeom prst="rect">
              <a:avLst/>
            </a:prstGeom>
            <a:ln w="19080">
              <a:solidFill>
                <a:srgbClr val="000000"/>
              </a:solidFill>
              <a:miter/>
            </a:ln>
          </p:spPr>
        </p:pic>
      </p:grpSp>
      <p:grpSp>
        <p:nvGrpSpPr>
          <p:cNvPr id="670" name=""/>
          <p:cNvGrpSpPr/>
          <p:nvPr/>
        </p:nvGrpSpPr>
        <p:grpSpPr>
          <a:xfrm>
            <a:off x="6095880" y="2057040"/>
            <a:ext cx="2819520" cy="2362680"/>
            <a:chOff x="6095880" y="2057040"/>
            <a:chExt cx="2819520" cy="2362680"/>
          </a:xfrm>
        </p:grpSpPr>
        <p:grpSp>
          <p:nvGrpSpPr>
            <p:cNvPr id="671" name=""/>
            <p:cNvGrpSpPr/>
            <p:nvPr/>
          </p:nvGrpSpPr>
          <p:grpSpPr>
            <a:xfrm>
              <a:off x="6095880" y="2286000"/>
              <a:ext cx="2819520" cy="2133720"/>
              <a:chOff x="6095880" y="2286000"/>
              <a:chExt cx="2819520" cy="2133720"/>
            </a:xfrm>
          </p:grpSpPr>
          <p:grpSp>
            <p:nvGrpSpPr>
              <p:cNvPr id="672" name=""/>
              <p:cNvGrpSpPr/>
              <p:nvPr/>
            </p:nvGrpSpPr>
            <p:grpSpPr>
              <a:xfrm>
                <a:off x="6095880" y="2286000"/>
                <a:ext cx="2819520" cy="1294920"/>
                <a:chOff x="6095880" y="2286000"/>
                <a:chExt cx="2819520" cy="1294920"/>
              </a:xfrm>
            </p:grpSpPr>
            <p:sp>
              <p:nvSpPr>
                <p:cNvPr id="673" name=""/>
                <p:cNvSpPr/>
                <p:nvPr/>
              </p:nvSpPr>
              <p:spPr>
                <a:xfrm>
                  <a:off x="6215040" y="2590560"/>
                  <a:ext cx="712800" cy="779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6095880" y="3422520"/>
                  <a:ext cx="951120" cy="158400"/>
                </a:xfrm>
                <a:custGeom>
                  <a:avLst/>
                  <a:gdLst>
                    <a:gd name="textAreaLeft" fmla="*/ 158040 w 951120"/>
                    <a:gd name="textAreaRight" fmla="*/ 793080 w 951120"/>
                    <a:gd name="textAreaTop" fmla="*/ 26280 h 158400"/>
                    <a:gd name="textAreaBottom" fmla="*/ 132120 h 158400"/>
                  </a:gdLst>
                  <a:ahLst/>
                  <a:rect l="textAreaLeft" t="textAreaTop" r="textAreaRight" b="textAreaBottom"/>
                  <a:pathLst>
                    <a:path w="21600" h="21600">
                      <a:moveTo>
                        <a:pt x="0" y="0"/>
                      </a:moveTo>
                      <a:lnTo>
                        <a:pt x="21600" y="0"/>
                      </a:lnTo>
                      <a:lnTo>
                        <a:pt x="18282" y="21600"/>
                      </a:lnTo>
                      <a:lnTo>
                        <a:pt x="3318"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129440" y="2286000"/>
                  <a:ext cx="712800" cy="779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7010280" y="3117600"/>
                  <a:ext cx="951120" cy="158400"/>
                </a:xfrm>
                <a:custGeom>
                  <a:avLst/>
                  <a:gdLst>
                    <a:gd name="textAreaLeft" fmla="*/ 158040 w 951120"/>
                    <a:gd name="textAreaRight" fmla="*/ 793080 w 951120"/>
                    <a:gd name="textAreaTop" fmla="*/ 26280 h 158400"/>
                    <a:gd name="textAreaBottom" fmla="*/ 132120 h 158400"/>
                  </a:gdLst>
                  <a:ahLst/>
                  <a:rect l="textAreaLeft" t="textAreaTop" r="textAreaRight" b="textAreaBottom"/>
                  <a:pathLst>
                    <a:path w="21600" h="21600">
                      <a:moveTo>
                        <a:pt x="0" y="0"/>
                      </a:moveTo>
                      <a:lnTo>
                        <a:pt x="21600" y="0"/>
                      </a:lnTo>
                      <a:lnTo>
                        <a:pt x="18282" y="21600"/>
                      </a:lnTo>
                      <a:lnTo>
                        <a:pt x="3318"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083440" y="2514240"/>
                  <a:ext cx="712800" cy="779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7964640" y="3346200"/>
                  <a:ext cx="950760" cy="158400"/>
                </a:xfrm>
                <a:custGeom>
                  <a:avLst/>
                  <a:gdLst>
                    <a:gd name="textAreaLeft" fmla="*/ 158040 w 950760"/>
                    <a:gd name="textAreaRight" fmla="*/ 792720 w 950760"/>
                    <a:gd name="textAreaTop" fmla="*/ 26280 h 158400"/>
                    <a:gd name="textAreaBottom" fmla="*/ 132120 h 158400"/>
                  </a:gdLst>
                  <a:ahLst/>
                  <a:rect l="textAreaLeft" t="textAreaTop" r="textAreaRight" b="textAreaBottom"/>
                  <a:pathLst>
                    <a:path w="21600" h="21600">
                      <a:moveTo>
                        <a:pt x="0" y="0"/>
                      </a:moveTo>
                      <a:lnTo>
                        <a:pt x="21600" y="0"/>
                      </a:lnTo>
                      <a:lnTo>
                        <a:pt x="18282" y="21600"/>
                      </a:lnTo>
                      <a:lnTo>
                        <a:pt x="3318"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6629400" y="3048120"/>
                <a:ext cx="533520" cy="1295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543800" y="2895480"/>
                <a:ext cx="0" cy="1524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7924320" y="2971800"/>
                <a:ext cx="381240" cy="1371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flipV="1">
              <a:off x="6629400" y="2057400"/>
              <a:ext cx="228600" cy="9144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7543800" y="205704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8305920" y="213372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705A1EA-3020-44EA-8AA5-8C12A8BF80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4524480" y="2046240"/>
            <a:ext cx="4268520" cy="4264200"/>
          </a:xfrm>
          <a:prstGeom prst="rect">
            <a:avLst/>
          </a:prstGeom>
          <a:ln w="0">
            <a:noFill/>
          </a:ln>
        </p:spPr>
      </p:pic>
      <p:sp>
        <p:nvSpPr>
          <p:cNvPr id="6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posed Detector/Analysis: </a:t>
            </a:r>
            <a:br>
              <a:rPr sz="4400"/>
            </a:br>
            <a:r>
              <a:rPr b="0" lang="en-US" sz="4400" spc="-1" strike="noStrike">
                <a:solidFill>
                  <a:srgbClr val="000000"/>
                </a:solidFill>
                <a:latin typeface="Times New Roman"/>
              </a:rPr>
              <a:t>Wormholes and a Honeyfarm</a:t>
            </a:r>
            <a:endParaRPr b="0" lang="en-US" sz="4400" spc="-1" strike="noStrike">
              <a:solidFill>
                <a:srgbClr val="000000"/>
              </a:solidFill>
              <a:latin typeface="Times New Roman"/>
            </a:endParaRPr>
          </a:p>
        </p:txBody>
      </p:sp>
      <p:sp>
        <p:nvSpPr>
          <p:cNvPr id="687" name="PlaceHolder 2"/>
          <p:cNvSpPr>
            <a:spLocks noGrp="1"/>
          </p:cNvSpPr>
          <p:nvPr>
            <p:ph/>
          </p:nvPr>
        </p:nvSpPr>
        <p:spPr>
          <a:xfrm>
            <a:off x="685440" y="1980720"/>
            <a:ext cx="75438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holes are traffic tunne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s connections to</a:t>
            </a:r>
            <a:br>
              <a:rPr sz="2000"/>
            </a:br>
            <a:r>
              <a:rPr b="0" lang="en-US" sz="2000" spc="-1" strike="noStrike">
                <a:solidFill>
                  <a:srgbClr val="000000"/>
                </a:solidFill>
                <a:latin typeface="Times New Roman"/>
              </a:rPr>
              <a:t>a remote syste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trusted endpoin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farm consists of </a:t>
            </a:r>
            <a:br>
              <a:rPr sz="2400"/>
            </a:br>
            <a:r>
              <a:rPr b="0" lang="en-US" sz="2400" spc="-1" strike="noStrike">
                <a:solidFill>
                  <a:srgbClr val="000000"/>
                </a:solidFill>
                <a:latin typeface="Times New Roman"/>
              </a:rPr>
              <a:t>Virtual Machine honeypo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virtual honeypots </a:t>
            </a:r>
            <a:br>
              <a:rPr sz="2000"/>
            </a:br>
            <a:r>
              <a:rPr b="0" lang="en-US" sz="2000" spc="-1" strike="noStrike">
                <a:solidFill>
                  <a:srgbClr val="000000"/>
                </a:solidFill>
                <a:latin typeface="Times New Roman"/>
              </a:rPr>
              <a:t>on deman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honeynet.org</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 internally generated </a:t>
            </a:r>
            <a:br>
              <a:rPr sz="2000"/>
            </a:br>
            <a:r>
              <a:rPr b="0" lang="en-US" sz="2000" spc="-1" strike="noStrike">
                <a:solidFill>
                  <a:srgbClr val="000000"/>
                </a:solidFill>
                <a:latin typeface="Times New Roman"/>
              </a:rPr>
              <a:t>traffic to other image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ify based on what </a:t>
            </a:r>
            <a:br>
              <a:rPr sz="1800"/>
            </a:br>
            <a:r>
              <a:rPr b="0" lang="en-US" sz="1800" spc="-1" strike="noStrike">
                <a:solidFill>
                  <a:srgbClr val="000000"/>
                </a:solidFill>
                <a:latin typeface="Times New Roman"/>
              </a:rPr>
              <a:t>can be infect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B17C19D-F2D9-4A27-BA8C-70D089A951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knowledgement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performed in association with</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art Staniford, Silicon Defens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n Paxson, ICSI Center for Internet Researc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bert Cunningham, MIT Lincoln Laboratory</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pphire Analysis with:</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id Moore (CAIDA &amp; UCSD), Vern Paxson (ICIR &amp; LBNL) Stefan Savage (UCSD), Colleen Shannon (CAIDA), and Stuart Staniford (Silicon Defens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sponsored in part by DARP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ed at Silicon Defense, Contract N66001-00-C-8045</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How to 0wn the Internet...” http://www.cs.berkeley.edu/~nweaver/cdc.web/</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pphire Analysis</a:t>
            </a:r>
            <a:br>
              <a:rPr sz="1800"/>
            </a:br>
            <a:r>
              <a:rPr b="0" lang="en-US" sz="1800" spc="-1" strike="noStrike">
                <a:solidFill>
                  <a:srgbClr val="000000"/>
                </a:solidFill>
                <a:latin typeface="Times New Roman"/>
              </a:rPr>
              <a:t>http://www.cs.berkeley.edu/~nweaver/sapphi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F3E511D-C329-47BD-885D-56A8473C18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Wormholes Work</a:t>
            </a:r>
            <a:endParaRPr b="0" lang="en-US" sz="4400" spc="-1" strike="noStrike">
              <a:solidFill>
                <a:srgbClr val="000000"/>
              </a:solidFill>
              <a:latin typeface="Times New Roman"/>
            </a:endParaRPr>
          </a:p>
        </p:txBody>
      </p:sp>
      <p:sp>
        <p:nvSpPr>
          <p:cNvPr id="68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cost, low administration “applian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ugs into network, obtains </a:t>
            </a:r>
            <a:br>
              <a:rPr sz="2000"/>
            </a:br>
            <a:r>
              <a:rPr b="0" lang="en-US" sz="2000" spc="-1" strike="noStrike">
                <a:solidFill>
                  <a:srgbClr val="000000"/>
                </a:solidFill>
                <a:latin typeface="Times New Roman"/>
              </a:rPr>
              <a:t>address through DHC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cts the Honeyfar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figures local network stack</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l </a:t>
            </a:r>
            <a:r>
              <a:rPr b="1" lang="en-US" sz="1800" spc="-1" strike="noStrike">
                <a:solidFill>
                  <a:srgbClr val="000000"/>
                </a:solidFill>
                <a:latin typeface="Courier New"/>
              </a:rPr>
              <a:t>nmap</a:t>
            </a:r>
            <a:r>
              <a:rPr b="1" lang="en-US" sz="1800" spc="-1" strike="noStrike">
                <a:solidFill>
                  <a:srgbClr val="000000"/>
                </a:solidFill>
                <a:latin typeface="Times New Roman"/>
              </a:rPr>
              <a:t> </a:t>
            </a:r>
            <a:r>
              <a:rPr b="0" lang="en-US" sz="1800" spc="-1" strike="noStrike">
                <a:solidFill>
                  <a:srgbClr val="000000"/>
                </a:solidFill>
                <a:latin typeface="Times New Roman"/>
              </a:rPr>
              <a:t>style detection</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s all traffic to/from the Honeyfar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Box:</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loyers have source cod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trictions built into the wormhole code</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also forward/route entire address ranges (/24s or larger) to the honeyfar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ill want many single IP endpoints for obscurity</a:t>
            </a:r>
            <a:endParaRPr b="0" lang="en-US" sz="2000" spc="-1" strike="noStrike">
              <a:solidFill>
                <a:srgbClr val="000000"/>
              </a:solidFill>
              <a:latin typeface="Times New Roman"/>
            </a:endParaRPr>
          </a:p>
        </p:txBody>
      </p:sp>
      <p:pic>
        <p:nvPicPr>
          <p:cNvPr id="690" name="" descr=""/>
          <p:cNvPicPr/>
          <p:nvPr/>
        </p:nvPicPr>
        <p:blipFill>
          <a:blip r:embed="rId1"/>
          <a:stretch/>
        </p:blipFill>
        <p:spPr>
          <a:xfrm>
            <a:off x="6019920" y="2395440"/>
            <a:ext cx="3124080" cy="2405160"/>
          </a:xfrm>
          <a:prstGeom prst="rect">
            <a:avLst/>
          </a:prstGeom>
          <a:ln w="0">
            <a:noFill/>
          </a:ln>
        </p:spPr>
      </p:pic>
      <p:sp>
        <p:nvSpPr>
          <p:cNvPr id="4" name="PlaceHolder 3"/>
          <p:cNvSpPr>
            <a:spLocks noGrp="1"/>
          </p:cNvSpPr>
          <p:nvPr>
            <p:ph type="sldNum" idx="3"/>
          </p:nvPr>
        </p:nvSpPr>
        <p:spPr/>
        <p:txBody>
          <a:bodyPr/>
          <a:p>
            <a:fld id="{8F889D51-B110-4AF7-B31A-4992022DF9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 Honeyfarm Works</a:t>
            </a:r>
            <a:endParaRPr b="0" lang="en-US" sz="4400" spc="-1" strike="noStrike">
              <a:solidFill>
                <a:srgbClr val="000000"/>
              </a:solidFill>
              <a:latin typeface="Times New Roman"/>
            </a:endParaRPr>
          </a:p>
        </p:txBody>
      </p:sp>
      <p:sp>
        <p:nvSpPr>
          <p:cNvPr id="692" name="PlaceHolder 2"/>
          <p:cNvSpPr>
            <a:spLocks noGrp="1"/>
          </p:cNvSpPr>
          <p:nvPr>
            <p:ph/>
          </p:nvPr>
        </p:nvSpPr>
        <p:spPr>
          <a:xfrm>
            <a:off x="685440" y="1980720"/>
            <a:ext cx="571500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s Virtual Machine images to implement Honeypot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VMware or similar</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a bunch of net-booting </a:t>
            </a:r>
            <a:br>
              <a:rPr sz="1800"/>
            </a:br>
            <a:r>
              <a:rPr b="0" lang="en-US" sz="1800" spc="-1" strike="noStrike">
                <a:solidFill>
                  <a:srgbClr val="000000"/>
                </a:solidFill>
                <a:latin typeface="Times New Roman"/>
              </a:rPr>
              <a:t>physical machines</a:t>
            </a:r>
            <a:endParaRPr b="0"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ges exist "in potential" until traffic receive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s the illusion that a honeypot </a:t>
            </a:r>
            <a:br>
              <a:rPr sz="2000"/>
            </a:br>
            <a:r>
              <a:rPr b="0" lang="en-US" sz="2000" spc="-1" strike="noStrike">
                <a:solidFill>
                  <a:srgbClr val="000000"/>
                </a:solidFill>
                <a:latin typeface="Times New Roman"/>
              </a:rPr>
              <a:t>exists at every wormhole location</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traffic received from wormhol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ate and configure a VM imag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traffic to VM image</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pot image generated traffic is monitored and redirected</a:t>
            </a:r>
            <a:endParaRPr b="0" lang="en-US" sz="2400" spc="-1" strike="noStrike">
              <a:solidFill>
                <a:srgbClr val="000000"/>
              </a:solidFill>
              <a:latin typeface="Times New Roman"/>
            </a:endParaRPr>
          </a:p>
        </p:txBody>
      </p:sp>
      <p:grpSp>
        <p:nvGrpSpPr>
          <p:cNvPr id="693" name=""/>
          <p:cNvGrpSpPr/>
          <p:nvPr/>
        </p:nvGrpSpPr>
        <p:grpSpPr>
          <a:xfrm>
            <a:off x="5943600" y="2209680"/>
            <a:ext cx="3048120" cy="4419720"/>
            <a:chOff x="5943600" y="2209680"/>
            <a:chExt cx="3048120" cy="4419720"/>
          </a:xfrm>
        </p:grpSpPr>
        <p:sp>
          <p:nvSpPr>
            <p:cNvPr id="694" name=""/>
            <p:cNvSpPr/>
            <p:nvPr/>
          </p:nvSpPr>
          <p:spPr>
            <a:xfrm>
              <a:off x="6172200" y="2209680"/>
              <a:ext cx="2666880" cy="106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ho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aa.bb.cc.dd</a:t>
              </a:r>
              <a:endParaRPr b="0" lang="en-US" sz="2000" spc="-1" strike="noStrike">
                <a:solidFill>
                  <a:srgbClr val="000000"/>
                </a:solidFill>
                <a:latin typeface="Times New Roman"/>
              </a:endParaRPr>
            </a:p>
          </p:txBody>
        </p:sp>
        <p:sp>
          <p:nvSpPr>
            <p:cNvPr id="695" name=""/>
            <p:cNvSpPr/>
            <p:nvPr/>
          </p:nvSpPr>
          <p:spPr>
            <a:xfrm>
              <a:off x="5943600" y="3733920"/>
              <a:ext cx="3048120" cy="2895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farm</a:t>
              </a:r>
              <a:endParaRPr b="0" lang="en-US" sz="2400" spc="-1" strike="noStrike">
                <a:solidFill>
                  <a:srgbClr val="000000"/>
                </a:solidFill>
                <a:latin typeface="Times New Roman"/>
              </a:endParaRPr>
            </a:p>
          </p:txBody>
        </p:sp>
        <p:sp>
          <p:nvSpPr>
            <p:cNvPr id="696" name=""/>
            <p:cNvSpPr/>
            <p:nvPr/>
          </p:nvSpPr>
          <p:spPr>
            <a:xfrm>
              <a:off x="7086600" y="4495680"/>
              <a:ext cx="1828800" cy="838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M Im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xx.xx.xx.xx</a:t>
              </a:r>
              <a:endParaRPr b="0" lang="en-US" sz="2000" spc="-1" strike="noStrike">
                <a:solidFill>
                  <a:srgbClr val="000000"/>
                </a:solidFill>
                <a:latin typeface="Times New Roman"/>
              </a:endParaRPr>
            </a:p>
          </p:txBody>
        </p:sp>
        <p:sp>
          <p:nvSpPr>
            <p:cNvPr id="697" name=""/>
            <p:cNvSpPr/>
            <p:nvPr/>
          </p:nvSpPr>
          <p:spPr>
            <a:xfrm>
              <a:off x="7086600" y="5410080"/>
              <a:ext cx="1828800" cy="838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M Im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xx.xx.xx.xx</a:t>
              </a:r>
              <a:endParaRPr b="0" lang="en-US" sz="2000" spc="-1" strike="noStrike">
                <a:solidFill>
                  <a:srgbClr val="000000"/>
                </a:solidFill>
                <a:latin typeface="Times New Roman"/>
              </a:endParaRPr>
            </a:p>
          </p:txBody>
        </p:sp>
      </p:grpSp>
      <p:grpSp>
        <p:nvGrpSpPr>
          <p:cNvPr id="698" name=""/>
          <p:cNvGrpSpPr/>
          <p:nvPr/>
        </p:nvGrpSpPr>
        <p:grpSpPr>
          <a:xfrm>
            <a:off x="5638680" y="2743200"/>
            <a:ext cx="838440" cy="990720"/>
            <a:chOff x="5638680" y="2743200"/>
            <a:chExt cx="838440" cy="990720"/>
          </a:xfrm>
        </p:grpSpPr>
        <p:sp>
          <p:nvSpPr>
            <p:cNvPr id="699" name=""/>
            <p:cNvSpPr/>
            <p:nvPr/>
          </p:nvSpPr>
          <p:spPr>
            <a:xfrm>
              <a:off x="5638680" y="2743200"/>
              <a:ext cx="53352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477120" y="3048120"/>
              <a:ext cx="0" cy="68580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6477120" y="3733920"/>
            <a:ext cx="2438280" cy="1600200"/>
            <a:chOff x="6477120" y="3733920"/>
            <a:chExt cx="2438280" cy="1600200"/>
          </a:xfrm>
        </p:grpSpPr>
        <p:sp>
          <p:nvSpPr>
            <p:cNvPr id="702" name=""/>
            <p:cNvSpPr/>
            <p:nvPr/>
          </p:nvSpPr>
          <p:spPr>
            <a:xfrm>
              <a:off x="6477120" y="3733920"/>
              <a:ext cx="609480" cy="1143000"/>
            </a:xfrm>
            <a:custGeom>
              <a:avLst/>
              <a:gdLst/>
              <a:ahLst/>
              <a:rect l="l" t="t" r="r" b="b"/>
              <a:pathLst>
                <a:path w="384" h="720">
                  <a:moveTo>
                    <a:pt x="0" y="0"/>
                  </a:moveTo>
                  <a:lnTo>
                    <a:pt x="0" y="720"/>
                  </a:lnTo>
                  <a:lnTo>
                    <a:pt x="384" y="720"/>
                  </a:lnTo>
                </a:path>
              </a:pathLst>
            </a:custGeom>
            <a:noFill/>
            <a:ln w="38160">
              <a:solidFill>
                <a:srgbClr val="ff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086600" y="4495680"/>
              <a:ext cx="1828800" cy="838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M Im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aa.bb.cc.dd</a:t>
              </a:r>
              <a:endParaRPr b="0" lang="en-US" sz="2000" spc="-1" strike="noStrike">
                <a:solidFill>
                  <a:srgbClr val="000000"/>
                </a:solidFill>
                <a:latin typeface="Times New Roman"/>
              </a:endParaRPr>
            </a:p>
          </p:txBody>
        </p:sp>
      </p:grpSp>
      <p:sp>
        <p:nvSpPr>
          <p:cNvPr id="704" name=""/>
          <p:cNvSpPr/>
          <p:nvPr/>
        </p:nvSpPr>
        <p:spPr>
          <a:xfrm>
            <a:off x="5638680" y="2590920"/>
            <a:ext cx="1447920" cy="2133360"/>
          </a:xfrm>
          <a:custGeom>
            <a:avLst/>
            <a:gdLst/>
            <a:ahLst/>
            <a:rect l="l" t="t" r="r" b="b"/>
            <a:pathLst>
              <a:path w="912" h="1344">
                <a:moveTo>
                  <a:pt x="912" y="1344"/>
                </a:moveTo>
                <a:lnTo>
                  <a:pt x="624" y="1344"/>
                </a:lnTo>
                <a:lnTo>
                  <a:pt x="624" y="0"/>
                </a:lnTo>
                <a:lnTo>
                  <a:pt x="0" y="0"/>
                </a:lnTo>
              </a:path>
            </a:pathLst>
          </a:custGeom>
          <a:noFill/>
          <a:ln w="38160">
            <a:solidFill>
              <a:srgbClr val="ff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5" name=""/>
          <p:cNvGrpSpPr/>
          <p:nvPr/>
        </p:nvGrpSpPr>
        <p:grpSpPr>
          <a:xfrm>
            <a:off x="6477120" y="5029200"/>
            <a:ext cx="2438280" cy="1219320"/>
            <a:chOff x="6477120" y="5029200"/>
            <a:chExt cx="2438280" cy="1219320"/>
          </a:xfrm>
        </p:grpSpPr>
        <p:sp>
          <p:nvSpPr>
            <p:cNvPr id="706" name=""/>
            <p:cNvSpPr/>
            <p:nvPr/>
          </p:nvSpPr>
          <p:spPr>
            <a:xfrm>
              <a:off x="7086600" y="5410080"/>
              <a:ext cx="1828800" cy="838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M Im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aa.bb.cc.ee</a:t>
              </a:r>
              <a:endParaRPr b="0" lang="en-US" sz="2000" spc="-1" strike="noStrike">
                <a:solidFill>
                  <a:srgbClr val="000000"/>
                </a:solidFill>
                <a:latin typeface="Times New Roman"/>
              </a:endParaRPr>
            </a:p>
          </p:txBody>
        </p:sp>
        <p:sp>
          <p:nvSpPr>
            <p:cNvPr id="707" name=""/>
            <p:cNvSpPr/>
            <p:nvPr/>
          </p:nvSpPr>
          <p:spPr>
            <a:xfrm>
              <a:off x="6477120" y="5029200"/>
              <a:ext cx="609480" cy="762120"/>
            </a:xfrm>
            <a:custGeom>
              <a:avLst/>
              <a:gdLst/>
              <a:ahLst/>
              <a:rect l="l" t="t" r="r" b="b"/>
              <a:pathLst>
                <a:path w="384" h="480">
                  <a:moveTo>
                    <a:pt x="384" y="0"/>
                  </a:moveTo>
                  <a:lnTo>
                    <a:pt x="0" y="0"/>
                  </a:lnTo>
                  <a:lnTo>
                    <a:pt x="0" y="480"/>
                  </a:lnTo>
                  <a:lnTo>
                    <a:pt x="384" y="480"/>
                  </a:lnTo>
                </a:path>
              </a:pathLst>
            </a:custGeom>
            <a:noFill/>
            <a:ln w="38160">
              <a:solidFill>
                <a:srgbClr val="ff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7051379-13AB-4F08-A44B-F8CB960D9F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ould We Automatically Learn From a Honeyfarm?</a:t>
            </a:r>
            <a:endParaRPr b="0" lang="en-US" sz="4400" spc="-1" strike="noStrike">
              <a:solidFill>
                <a:srgbClr val="000000"/>
              </a:solidFill>
              <a:latin typeface="Times New Roman"/>
            </a:endParaRPr>
          </a:p>
        </p:txBody>
      </p:sp>
      <p:sp>
        <p:nvSpPr>
          <p:cNvPr id="7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w worm is operating on the Intern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ggered based on ability to infect VM imag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he worm is capable of</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 of configurations which can be infecte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ing patch level</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s a “Vulnerability Signature”</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overtly and immediately malicious behavior</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mediate file erasers or similar behavior</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attack signatur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best for track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 attack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nning worm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ow enough to react effectivel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5ED6C31-2AF4-492E-B435-371BB839F0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rust is Needed?</a:t>
            </a:r>
            <a:endParaRPr b="0" lang="en-US" sz="4400" spc="-1" strike="noStrike">
              <a:solidFill>
                <a:srgbClr val="000000"/>
              </a:solidFill>
              <a:latin typeface="Times New Roman"/>
            </a:endParaRPr>
          </a:p>
        </p:txBody>
      </p:sp>
      <p:sp>
        <p:nvSpPr>
          <p:cNvPr id="711"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hole deploy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trust wormhole devices, </a:t>
            </a:r>
            <a:br>
              <a:rPr sz="2000"/>
            </a:br>
            <a:r>
              <a:rPr b="1" i="1" lang="en-US" sz="2000" spc="-1" strike="noStrike">
                <a:solidFill>
                  <a:srgbClr val="000000"/>
                </a:solidFill>
                <a:latin typeface="Times New Roman"/>
              </a:rPr>
              <a:t>not</a:t>
            </a:r>
            <a:r>
              <a:rPr b="0" lang="en-US" sz="2000" spc="-1" strike="noStrike">
                <a:solidFill>
                  <a:srgbClr val="000000"/>
                </a:solidFill>
                <a:latin typeface="Times New Roman"/>
              </a:rPr>
              <a:t> the honeyfarm operato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farm operat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ers know of some wormholes, </a:t>
            </a:r>
            <a:br>
              <a:rPr sz="2000"/>
            </a:br>
            <a:r>
              <a:rPr b="0" lang="en-US" sz="2000" spc="-1" strike="noStrike">
                <a:solidFill>
                  <a:srgbClr val="000000"/>
                </a:solidFill>
                <a:latin typeface="Times New Roman"/>
              </a:rPr>
              <a:t>but most are generally unknown</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mhole locations are “open secre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 </a:t>
            </a:r>
            <a:r>
              <a:rPr b="1" i="1" lang="en-US" sz="2000" spc="-1" strike="noStrike">
                <a:solidFill>
                  <a:srgbClr val="000000"/>
                </a:solidFill>
                <a:latin typeface="Times New Roman"/>
              </a:rPr>
              <a:t>not</a:t>
            </a:r>
            <a:r>
              <a:rPr b="0" lang="en-US" sz="2000" spc="-1" strike="noStrike">
                <a:solidFill>
                  <a:srgbClr val="000000"/>
                </a:solidFill>
                <a:latin typeface="Times New Roman"/>
              </a:rPr>
              <a:t> trust wormhole deployer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honest wormholes are filtered ou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ding systems receiving the ale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ther the honeyfarm is hone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rely on multiple, independent honeyfarms all raising an alarm</a:t>
            </a:r>
            <a:endParaRPr b="0" lang="en-US" sz="2000" spc="-1" strike="noStrike">
              <a:solidFill>
                <a:srgbClr val="000000"/>
              </a:solidFill>
              <a:latin typeface="Times New Roman"/>
            </a:endParaRPr>
          </a:p>
        </p:txBody>
      </p:sp>
      <p:pic>
        <p:nvPicPr>
          <p:cNvPr id="712" name="" descr=""/>
          <p:cNvPicPr/>
          <p:nvPr/>
        </p:nvPicPr>
        <p:blipFill>
          <a:blip r:embed="rId1"/>
          <a:stretch/>
        </p:blipFill>
        <p:spPr>
          <a:xfrm>
            <a:off x="5638680" y="2057400"/>
            <a:ext cx="3505320" cy="2384280"/>
          </a:xfrm>
          <a:prstGeom prst="rect">
            <a:avLst/>
          </a:prstGeom>
          <a:ln w="0">
            <a:noFill/>
          </a:ln>
        </p:spPr>
      </p:pic>
      <p:sp>
        <p:nvSpPr>
          <p:cNvPr id="4" name="PlaceHolder 3"/>
          <p:cNvSpPr>
            <a:spLocks noGrp="1"/>
          </p:cNvSpPr>
          <p:nvPr>
            <p:ph type="sldNum" idx="3"/>
          </p:nvPr>
        </p:nvSpPr>
        <p:spPr/>
        <p:txBody>
          <a:bodyPr/>
          <a:p>
            <a:fld id="{F2C90020-2F94-45E6-82D0-20656F4F20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Attacks on the Honeyfarm System</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negati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ing code can’t infect the honeypo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er knows most or all wormhole location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mhole locations are a distributed “worthless secret”</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er can remotely distinguish between a wormhole and another machine</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 the net for all wormhole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ing code can determine that it is running in the honeyfarm</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out triggering an alarm</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positi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omise the honeyfarm system</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a VM image or a wormhol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3938BD0-A725-4A55-A401-DFF87EFAE6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Work</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the Honeyfarm syste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rs extremely high sensitivity and significant inform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network-level (wiring closet) detectors/respond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mart” switches with additional functionality (FPGA based)</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to be flexible (reprogrammable), </a:t>
            </a:r>
            <a:br>
              <a:rPr sz="1800"/>
            </a:br>
            <a:r>
              <a:rPr b="0" lang="en-US" sz="1800" spc="-1" strike="noStrike">
                <a:solidFill>
                  <a:srgbClr val="000000"/>
                </a:solidFill>
                <a:latin typeface="Times New Roman"/>
              </a:rPr>
              <a:t>fast (Gb links), and reasonably low cost</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algorithms and techniques are required</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 “Hard on the outside” with “Hard everywhe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distributed analysis syste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various detectors to determine presence, speed, and behavior of a worm</a:t>
            </a:r>
            <a:endParaRPr b="0" lang="en-US" sz="2000" spc="-1" strike="noStrike">
              <a:solidFill>
                <a:srgbClr val="000000"/>
              </a:solidFill>
              <a:latin typeface="Times New Roman"/>
            </a:endParaRPr>
          </a:p>
        </p:txBody>
      </p:sp>
      <p:grpSp>
        <p:nvGrpSpPr>
          <p:cNvPr id="717" name=""/>
          <p:cNvGrpSpPr/>
          <p:nvPr/>
        </p:nvGrpSpPr>
        <p:grpSpPr>
          <a:xfrm>
            <a:off x="6324480" y="3517920"/>
            <a:ext cx="2606400" cy="1400040"/>
            <a:chOff x="6324480" y="3517920"/>
            <a:chExt cx="2606400" cy="1400040"/>
          </a:xfrm>
        </p:grpSpPr>
        <p:grpSp>
          <p:nvGrpSpPr>
            <p:cNvPr id="718" name=""/>
            <p:cNvGrpSpPr/>
            <p:nvPr/>
          </p:nvGrpSpPr>
          <p:grpSpPr>
            <a:xfrm>
              <a:off x="8544960" y="4338360"/>
              <a:ext cx="385920" cy="434520"/>
              <a:chOff x="8544960" y="4338360"/>
              <a:chExt cx="385920" cy="434520"/>
            </a:xfrm>
          </p:grpSpPr>
          <p:sp>
            <p:nvSpPr>
              <p:cNvPr id="719" name=""/>
              <p:cNvSpPr/>
              <p:nvPr/>
            </p:nvSpPr>
            <p:spPr>
              <a:xfrm>
                <a:off x="8593200" y="4338360"/>
                <a:ext cx="28944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641080" y="4386600"/>
                <a:ext cx="192960" cy="19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8544960" y="4676400"/>
                <a:ext cx="385920" cy="96480"/>
              </a:xfrm>
              <a:custGeom>
                <a:avLst/>
                <a:gdLst>
                  <a:gd name="textAreaLeft" fmla="*/ 64080 w 385920"/>
                  <a:gd name="textAreaRight" fmla="*/ 321840 w 385920"/>
                  <a:gd name="textAreaTop" fmla="*/ 15840 h 96480"/>
                  <a:gd name="textAreaBottom" fmla="*/ 80640 h 964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722" name=""/>
            <p:cNvGrpSpPr/>
            <p:nvPr/>
          </p:nvGrpSpPr>
          <p:grpSpPr>
            <a:xfrm>
              <a:off x="7289640" y="4483440"/>
              <a:ext cx="386280" cy="434520"/>
              <a:chOff x="7289640" y="4483440"/>
              <a:chExt cx="386280" cy="434520"/>
            </a:xfrm>
          </p:grpSpPr>
          <p:sp>
            <p:nvSpPr>
              <p:cNvPr id="723" name=""/>
              <p:cNvSpPr/>
              <p:nvPr/>
            </p:nvSpPr>
            <p:spPr>
              <a:xfrm>
                <a:off x="7337880" y="4483440"/>
                <a:ext cx="28980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386120" y="4531680"/>
                <a:ext cx="193320" cy="19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7289640" y="4821480"/>
                <a:ext cx="386280" cy="96480"/>
              </a:xfrm>
              <a:custGeom>
                <a:avLst/>
                <a:gdLst>
                  <a:gd name="textAreaLeft" fmla="*/ 64080 w 386280"/>
                  <a:gd name="textAreaRight" fmla="*/ 322200 w 386280"/>
                  <a:gd name="textAreaTop" fmla="*/ 15840 h 96480"/>
                  <a:gd name="textAreaBottom" fmla="*/ 80640 h 964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726" name=""/>
            <p:cNvGrpSpPr/>
            <p:nvPr/>
          </p:nvGrpSpPr>
          <p:grpSpPr>
            <a:xfrm>
              <a:off x="7965720" y="4483440"/>
              <a:ext cx="385920" cy="434520"/>
              <a:chOff x="7965720" y="4483440"/>
              <a:chExt cx="385920" cy="434520"/>
            </a:xfrm>
          </p:grpSpPr>
          <p:sp>
            <p:nvSpPr>
              <p:cNvPr id="727" name=""/>
              <p:cNvSpPr/>
              <p:nvPr/>
            </p:nvSpPr>
            <p:spPr>
              <a:xfrm>
                <a:off x="8013960" y="4483440"/>
                <a:ext cx="28944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8061840" y="4531680"/>
                <a:ext cx="192960" cy="19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V="1">
                <a:off x="7965720" y="4821480"/>
                <a:ext cx="385920" cy="96480"/>
              </a:xfrm>
              <a:custGeom>
                <a:avLst/>
                <a:gdLst>
                  <a:gd name="textAreaLeft" fmla="*/ 64080 w 385920"/>
                  <a:gd name="textAreaRight" fmla="*/ 321840 w 385920"/>
                  <a:gd name="textAreaTop" fmla="*/ 15840 h 96480"/>
                  <a:gd name="textAreaBottom" fmla="*/ 80640 h 964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sp>
          <p:nvSpPr>
            <p:cNvPr id="730" name=""/>
            <p:cNvSpPr/>
            <p:nvPr/>
          </p:nvSpPr>
          <p:spPr>
            <a:xfrm flipV="1">
              <a:off x="6324480" y="4000680"/>
              <a:ext cx="868680" cy="96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Cloud"/>
            <p:cNvSpPr/>
            <p:nvPr/>
          </p:nvSpPr>
          <p:spPr>
            <a:xfrm>
              <a:off x="7193160" y="3517920"/>
              <a:ext cx="1447920" cy="772560"/>
            </a:xfrm>
            <a:prstGeom prst="pie">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porate</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anet</a:t>
              </a:r>
              <a:endParaRPr b="0" lang="en-US" sz="1400" spc="-1" strike="noStrike">
                <a:solidFill>
                  <a:srgbClr val="000000"/>
                </a:solidFill>
                <a:latin typeface="Times New Roman"/>
              </a:endParaRPr>
            </a:p>
          </p:txBody>
        </p:sp>
        <p:sp>
          <p:nvSpPr>
            <p:cNvPr id="732" name=""/>
            <p:cNvSpPr/>
            <p:nvPr/>
          </p:nvSpPr>
          <p:spPr>
            <a:xfrm>
              <a:off x="6710400" y="3710880"/>
              <a:ext cx="241200" cy="675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7482960" y="4241880"/>
              <a:ext cx="96120" cy="241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flipV="1">
              <a:off x="8061840" y="4241880"/>
              <a:ext cx="96120" cy="241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flipV="1">
              <a:off x="8593200" y="4048920"/>
              <a:ext cx="144720" cy="289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Cloud"/>
          <p:cNvSpPr/>
          <p:nvPr/>
        </p:nvSpPr>
        <p:spPr>
          <a:xfrm>
            <a:off x="7191360" y="3508200"/>
            <a:ext cx="1447920" cy="771840"/>
          </a:xfrm>
          <a:prstGeom prst="pie">
            <a:avLst/>
          </a:pr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porate</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anet</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7FD1F4-EB15-44B9-8763-547FB7C499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verall Picture</a:t>
            </a:r>
            <a:endParaRPr b="0" lang="en-US" sz="4400" spc="-1" strike="noStrike">
              <a:solidFill>
                <a:srgbClr val="000000"/>
              </a:solidFill>
              <a:latin typeface="Times New Roman"/>
            </a:endParaRPr>
          </a:p>
        </p:txBody>
      </p:sp>
      <p:sp>
        <p:nvSpPr>
          <p:cNvPr id="73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Worms are a substantial thre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e to quickly compromise millions of machines if a vulnerability exi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attractive technique for attacker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number of worm strategi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the offense fir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defenses to block these strategi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the strategies and you stop the worm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research required to build defens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meaningful mechanisms seem availabl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Wormholes and a Honeyfarm as detector/analyz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D5D8F4-9D32-477C-B06C-5CDEE17BF5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Why Deploy a Wormhole?</a:t>
            </a:r>
            <a:endParaRPr b="0" lang="en-US" sz="4400" spc="-1" strike="noStrike">
              <a:solidFill>
                <a:srgbClr val="000000"/>
              </a:solidFill>
              <a:latin typeface="Times New Roman"/>
            </a:endParaRPr>
          </a:p>
        </p:txBody>
      </p:sp>
      <p:sp>
        <p:nvSpPr>
          <p:cNvPr id="74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cost muc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address and &lt;50 wat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ut it any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 to place outside of the firewal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need to trust the device, </a:t>
            </a:r>
            <a:r>
              <a:rPr b="1" i="1" lang="en-US" sz="2400" spc="-1" strike="noStrike">
                <a:solidFill>
                  <a:srgbClr val="000000"/>
                </a:solidFill>
                <a:latin typeface="Times New Roman"/>
              </a:rPr>
              <a:t>not</a:t>
            </a:r>
            <a:r>
              <a:rPr b="0" lang="en-US" sz="2400" spc="-1" strike="noStrike">
                <a:solidFill>
                  <a:srgbClr val="000000"/>
                </a:solidFill>
                <a:latin typeface="Times New Roman"/>
              </a:rPr>
              <a:t> the honeyfar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full source code and control of the de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mhole contains built-in protections against a “rogue” honeyfar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gain information about human attackers targeting your address sp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neyfarm tracks humans, not just worm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754015-2B58-40B9-891D-C80EF6A263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How to Test a Honeyfarm System</a:t>
            </a:r>
            <a:endParaRPr b="0" lang="en-US" sz="4400" spc="-1" strike="noStrike">
              <a:solidFill>
                <a:srgbClr val="000000"/>
              </a:solidFill>
              <a:latin typeface="Times New Roman"/>
            </a:endParaRPr>
          </a:p>
        </p:txBody>
      </p:sp>
      <p:sp>
        <p:nvSpPr>
          <p:cNvPr id="74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wor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ure you are vulnerable and introduce a known wor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ure you are vulnerable and wait for attack</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ld worms are still endemic</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wor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daemon which behaves LIKE a worm</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t create actual worm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Team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develop new mechanisms to create false negatives or false positiv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njunction with worm-like daem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46D913-E8A1-47C1-9E8C-6BF422B044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A Proposed Response: Quarantine/Containment</a:t>
            </a:r>
            <a:endParaRPr b="0" lang="en-US" sz="4400" spc="-1" strike="noStrike">
              <a:solidFill>
                <a:srgbClr val="000000"/>
              </a:solidFill>
              <a:latin typeface="Times New Roman"/>
            </a:endParaRPr>
          </a:p>
        </p:txBody>
      </p:sp>
      <p:sp>
        <p:nvSpPr>
          <p:cNvPr id="74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ly detect a worm-compromised machi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 further communication from infected machin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easy to implement for some classes of wor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nning is easy to detect</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lliamson, "Throttling Viruses...“</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Limitation: Only protects othe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s are still infec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Limitation: Requires widespread adop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ful in a well constructed Intran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deploy on the Internet</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oore et al, “Internet Quarantin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3154900-4586-4635-BCAD-41E81733BF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read of the Sapphire/Slammer SQL Worm</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0" y="1981080"/>
            <a:ext cx="9144000" cy="4572000"/>
          </a:xfrm>
          <a:prstGeom prst="rect">
            <a:avLst/>
          </a:prstGeom>
          <a:ln w="0">
            <a:noFill/>
          </a:ln>
        </p:spPr>
      </p:pic>
      <p:pic>
        <p:nvPicPr>
          <p:cNvPr id="103" name="" descr=""/>
          <p:cNvPicPr/>
          <p:nvPr/>
        </p:nvPicPr>
        <p:blipFill>
          <a:blip r:embed="rId2"/>
          <a:stretch/>
        </p:blipFill>
        <p:spPr>
          <a:xfrm>
            <a:off x="0" y="1981080"/>
            <a:ext cx="9144000" cy="4572000"/>
          </a:xfrm>
          <a:prstGeom prst="rect">
            <a:avLst/>
          </a:prstGeom>
          <a:ln w="0">
            <a:noFill/>
          </a:ln>
        </p:spPr>
      </p:pic>
      <p:sp>
        <p:nvSpPr>
          <p:cNvPr id="3" name="PlaceHolder 2"/>
          <p:cNvSpPr>
            <a:spLocks noGrp="1"/>
          </p:cNvSpPr>
          <p:nvPr>
            <p:ph type="sldNum" idx="3"/>
          </p:nvPr>
        </p:nvSpPr>
        <p:spPr/>
        <p:txBody>
          <a:bodyPr/>
          <a:p>
            <a:fld id="{3F51A26E-CBEF-40A1-93A5-5AAA247812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 Why Quarantining Machines Fails</a:t>
            </a:r>
            <a:endParaRPr b="0" lang="en-US" sz="4400" spc="-1" strike="noStrike">
              <a:solidFill>
                <a:srgbClr val="000000"/>
              </a:solidFill>
              <a:latin typeface="Times New Roman"/>
            </a:endParaRPr>
          </a:p>
        </p:txBody>
      </p:sp>
      <p:sp>
        <p:nvSpPr>
          <p:cNvPr id="746" name="PlaceHolder 2"/>
          <p:cNvSpPr>
            <a:spLocks noGrp="1"/>
          </p:cNvSpPr>
          <p:nvPr>
            <p:ph/>
          </p:nvPr>
        </p:nvSpPr>
        <p:spPr>
          <a:xfrm>
            <a:off x="685800" y="1980720"/>
            <a:ext cx="7772400" cy="2914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perfect quarantine de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ediately detect that a machine is compromi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e compromised machines from the ne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rate is reduc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machine behind perfect quarantine devices can be considered uninfectable for calculating spread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tle or no benefit for individual deployers</a:t>
            </a:r>
            <a:endParaRPr b="0" lang="en-US" sz="2400" spc="-1" strike="noStrike">
              <a:solidFill>
                <a:srgbClr val="000000"/>
              </a:solidFill>
              <a:latin typeface="Times New Roman"/>
            </a:endParaRPr>
          </a:p>
        </p:txBody>
      </p:sp>
      <p:graphicFrame>
        <p:nvGraphicFramePr>
          <p:cNvPr id="747" name=""/>
          <p:cNvGraphicFramePr/>
          <p:nvPr/>
        </p:nvGraphicFramePr>
        <p:xfrm>
          <a:off x="838080" y="4419720"/>
          <a:ext cx="7153560" cy="2409840"/>
        </p:xfrm>
        <a:graphic>
          <a:graphicData uri="http://schemas.openxmlformats.org/presentationml/2006/ole">
            <p:oleObj progId="Excel.Sheet.12" r:id="rId1" spid="">
              <p:embed/>
              <p:pic>
                <p:nvPicPr>
                  <p:cNvPr id="748" name="" descr=""/>
                  <p:cNvPicPr/>
                  <p:nvPr/>
                </p:nvPicPr>
                <p:blipFill>
                  <a:blip r:embed="rId2"/>
                  <a:stretch/>
                </p:blipFill>
                <p:spPr>
                  <a:xfrm>
                    <a:off x="838080" y="4419720"/>
                    <a:ext cx="7153560" cy="2409840"/>
                  </a:xfrm>
                  <a:prstGeom prst="rect">
                    <a:avLst/>
                  </a:prstGeom>
                  <a:ln w="0">
                    <a:noFill/>
                  </a:ln>
                </p:spPr>
              </p:pic>
            </p:oleObj>
          </a:graphicData>
        </a:graphic>
      </p:graphicFrame>
      <p:sp>
        <p:nvSpPr>
          <p:cNvPr id="4" name="PlaceHolder 3"/>
          <p:cNvSpPr>
            <a:spLocks noGrp="1"/>
          </p:cNvSpPr>
          <p:nvPr>
            <p:ph type="sldNum" idx="3"/>
          </p:nvPr>
        </p:nvSpPr>
        <p:spPr/>
        <p:txBody>
          <a:bodyPr/>
          <a:p>
            <a:fld id="{6C6BA67B-7311-47E6-90F7-1E4D82A9C5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A Proposed Response: Remote Detection &amp; Response</a:t>
            </a:r>
            <a:endParaRPr b="0" lang="en-US" sz="4400" spc="-1" strike="noStrike">
              <a:solidFill>
                <a:srgbClr val="000000"/>
              </a:solidFill>
              <a:latin typeface="Times New Roman"/>
            </a:endParaRPr>
          </a:p>
        </p:txBody>
      </p:sp>
      <p:sp>
        <p:nvSpPr>
          <p:cNvPr id="75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 the “to be protected” network into small piec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s fine grained respon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 all pieces for worm activit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 analysis system with external and internal detecto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trust the aggregate results of the external worl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incoming connections to each small pie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port/vulnerability/signature information from external and internal analysis system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e response based on internal infectio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s systems exposed to the Intern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n't require widespread adoption to protect </a:t>
            </a:r>
            <a:r>
              <a:rPr b="1" i="1" lang="en-US" sz="2000" spc="-1" strike="noStrike">
                <a:solidFill>
                  <a:srgbClr val="000000"/>
                </a:solidFill>
                <a:latin typeface="Times New Roman"/>
              </a:rPr>
              <a:t>participant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ill requires widespread adoption to protect the Interne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40D7B95-FADB-44B0-B941-7280C967E4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 Some Potential Worm Anomalies</a:t>
            </a:r>
            <a:endParaRPr b="0" lang="en-US" sz="4400" spc="-1" strike="noStrike">
              <a:solidFill>
                <a:srgbClr val="000000"/>
              </a:solidFill>
              <a:latin typeface="Times New Roman"/>
            </a:endParaRPr>
          </a:p>
        </p:txBody>
      </p:sp>
      <p:sp>
        <p:nvSpPr>
          <p:cNvPr id="75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ing Wor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 or nonresponses to worm’s network que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es to (almost) arbitrary address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server Wor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 in query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usual queries from serv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of outgoing connec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tlis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of outgoing connec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logical Wor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of outgoing connec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1F12AC-E990-4283-9D18-B8C2B46F27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 </a:t>
            </a:r>
            <a:br>
              <a:rPr sz="4400"/>
            </a:br>
            <a:r>
              <a:rPr b="0" lang="en-US" sz="4400" spc="-1" strike="noStrike">
                <a:solidFill>
                  <a:srgbClr val="000000"/>
                </a:solidFill>
                <a:latin typeface="Times New Roman"/>
              </a:rPr>
              <a:t>Why Smart Switches?</a:t>
            </a:r>
            <a:endParaRPr b="0" lang="en-US" sz="4400" spc="-1" strike="noStrike">
              <a:solidFill>
                <a:srgbClr val="000000"/>
              </a:solidFill>
              <a:latin typeface="Times New Roman"/>
            </a:endParaRPr>
          </a:p>
        </p:txBody>
      </p:sp>
      <p:sp>
        <p:nvSpPr>
          <p:cNvPr id="75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ewall model doesn’t work</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ways for a worm to initially </a:t>
            </a:r>
            <a:br>
              <a:rPr sz="2000"/>
            </a:br>
            <a:r>
              <a:rPr b="0" lang="en-US" sz="2000" spc="-1" strike="noStrike">
                <a:solidFill>
                  <a:srgbClr val="000000"/>
                </a:solidFill>
                <a:latin typeface="Times New Roman"/>
              </a:rPr>
              <a:t>penetrate a firewall</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inside, subnet scanning is very effective</a:t>
            </a:r>
            <a:endParaRPr b="0" lang="en-US" sz="18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a finer granularity of protection</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ect small groups or individual machines</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failure in protection only infects a small number of machines</a:t>
            </a:r>
            <a:endParaRPr b="0" lang="en-US" sz="1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effectively deploy software to all the machine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ersity of machine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infected, software can’t be trusted</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  Maintain a switch’s functionality, add security feature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 “Crunchy on the Outside, Tasty on the Inside” </a:t>
            </a:r>
            <a:br>
              <a:rPr sz="2000"/>
            </a:br>
            <a:r>
              <a:rPr b="0" lang="en-US" sz="2000" spc="-1" strike="noStrike">
                <a:solidFill>
                  <a:srgbClr val="000000"/>
                </a:solidFill>
                <a:latin typeface="Times New Roman"/>
              </a:rPr>
              <a:t>with “Hard Everywhere”</a:t>
            </a:r>
            <a:endParaRPr b="0" lang="en-US" sz="2000" spc="-1" strike="noStrike">
              <a:solidFill>
                <a:srgbClr val="000000"/>
              </a:solidFill>
              <a:latin typeface="Times New Roman"/>
            </a:endParaRPr>
          </a:p>
        </p:txBody>
      </p:sp>
      <p:grpSp>
        <p:nvGrpSpPr>
          <p:cNvPr id="755" name=""/>
          <p:cNvGrpSpPr/>
          <p:nvPr/>
        </p:nvGrpSpPr>
        <p:grpSpPr>
          <a:xfrm>
            <a:off x="6400800" y="2090880"/>
            <a:ext cx="2606400" cy="1400040"/>
            <a:chOff x="6400800" y="2090880"/>
            <a:chExt cx="2606400" cy="1400040"/>
          </a:xfrm>
        </p:grpSpPr>
        <p:grpSp>
          <p:nvGrpSpPr>
            <p:cNvPr id="756" name=""/>
            <p:cNvGrpSpPr/>
            <p:nvPr/>
          </p:nvGrpSpPr>
          <p:grpSpPr>
            <a:xfrm>
              <a:off x="8621280" y="2911320"/>
              <a:ext cx="385920" cy="434520"/>
              <a:chOff x="8621280" y="2911320"/>
              <a:chExt cx="385920" cy="434520"/>
            </a:xfrm>
          </p:grpSpPr>
          <p:sp>
            <p:nvSpPr>
              <p:cNvPr id="757" name=""/>
              <p:cNvSpPr/>
              <p:nvPr/>
            </p:nvSpPr>
            <p:spPr>
              <a:xfrm>
                <a:off x="8669520" y="2911320"/>
                <a:ext cx="28944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8717400" y="2959560"/>
                <a:ext cx="192960" cy="19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V="1">
                <a:off x="8621280" y="3249360"/>
                <a:ext cx="385920" cy="96480"/>
              </a:xfrm>
              <a:custGeom>
                <a:avLst/>
                <a:gdLst>
                  <a:gd name="textAreaLeft" fmla="*/ 64080 w 385920"/>
                  <a:gd name="textAreaRight" fmla="*/ 321840 w 385920"/>
                  <a:gd name="textAreaTop" fmla="*/ 15840 h 96480"/>
                  <a:gd name="textAreaBottom" fmla="*/ 80640 h 964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760" name=""/>
            <p:cNvGrpSpPr/>
            <p:nvPr/>
          </p:nvGrpSpPr>
          <p:grpSpPr>
            <a:xfrm>
              <a:off x="7365960" y="3056400"/>
              <a:ext cx="386280" cy="434520"/>
              <a:chOff x="7365960" y="3056400"/>
              <a:chExt cx="386280" cy="434520"/>
            </a:xfrm>
          </p:grpSpPr>
          <p:sp>
            <p:nvSpPr>
              <p:cNvPr id="761" name=""/>
              <p:cNvSpPr/>
              <p:nvPr/>
            </p:nvSpPr>
            <p:spPr>
              <a:xfrm>
                <a:off x="7414200" y="3056400"/>
                <a:ext cx="28980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462440" y="3104640"/>
                <a:ext cx="193320" cy="19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365960" y="3394440"/>
                <a:ext cx="386280" cy="96480"/>
              </a:xfrm>
              <a:custGeom>
                <a:avLst/>
                <a:gdLst>
                  <a:gd name="textAreaLeft" fmla="*/ 64080 w 386280"/>
                  <a:gd name="textAreaRight" fmla="*/ 322200 w 386280"/>
                  <a:gd name="textAreaTop" fmla="*/ 15840 h 96480"/>
                  <a:gd name="textAreaBottom" fmla="*/ 80640 h 964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764" name=""/>
            <p:cNvGrpSpPr/>
            <p:nvPr/>
          </p:nvGrpSpPr>
          <p:grpSpPr>
            <a:xfrm>
              <a:off x="8042040" y="3056400"/>
              <a:ext cx="385920" cy="434520"/>
              <a:chOff x="8042040" y="3056400"/>
              <a:chExt cx="385920" cy="434520"/>
            </a:xfrm>
          </p:grpSpPr>
          <p:sp>
            <p:nvSpPr>
              <p:cNvPr id="765" name=""/>
              <p:cNvSpPr/>
              <p:nvPr/>
            </p:nvSpPr>
            <p:spPr>
              <a:xfrm>
                <a:off x="8090280" y="3056400"/>
                <a:ext cx="28944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8138160" y="3104640"/>
                <a:ext cx="192960" cy="19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V="1">
                <a:off x="8042040" y="3394440"/>
                <a:ext cx="385920" cy="96480"/>
              </a:xfrm>
              <a:custGeom>
                <a:avLst/>
                <a:gdLst>
                  <a:gd name="textAreaLeft" fmla="*/ 64080 w 385920"/>
                  <a:gd name="textAreaRight" fmla="*/ 321840 w 385920"/>
                  <a:gd name="textAreaTop" fmla="*/ 15840 h 96480"/>
                  <a:gd name="textAreaBottom" fmla="*/ 80640 h 964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sp>
          <p:nvSpPr>
            <p:cNvPr id="768" name=""/>
            <p:cNvSpPr/>
            <p:nvPr/>
          </p:nvSpPr>
          <p:spPr>
            <a:xfrm flipV="1">
              <a:off x="6400800" y="2573640"/>
              <a:ext cx="868680" cy="96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Cloud"/>
            <p:cNvSpPr/>
            <p:nvPr/>
          </p:nvSpPr>
          <p:spPr>
            <a:xfrm>
              <a:off x="7269480" y="2090880"/>
              <a:ext cx="1447920" cy="772560"/>
            </a:xfrm>
            <a:prstGeom prst="pie">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rporate</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ranet</a:t>
              </a:r>
              <a:endParaRPr b="0" lang="en-US" sz="1400" spc="-1" strike="noStrike">
                <a:solidFill>
                  <a:srgbClr val="000000"/>
                </a:solidFill>
                <a:latin typeface="Times New Roman"/>
              </a:endParaRPr>
            </a:p>
          </p:txBody>
        </p:sp>
        <p:sp>
          <p:nvSpPr>
            <p:cNvPr id="770" name=""/>
            <p:cNvSpPr/>
            <p:nvPr/>
          </p:nvSpPr>
          <p:spPr>
            <a:xfrm>
              <a:off x="6786720" y="2283840"/>
              <a:ext cx="241200" cy="675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V="1">
              <a:off x="7559280" y="2814840"/>
              <a:ext cx="96120" cy="241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flipV="1">
              <a:off x="8138160" y="2814840"/>
              <a:ext cx="96120" cy="241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flipV="1">
              <a:off x="8669520" y="2621880"/>
              <a:ext cx="144720" cy="289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584E109-69B9-43DB-8429-69B8031858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a:t>
            </a:r>
            <a:br>
              <a:rPr sz="4400"/>
            </a:br>
            <a:r>
              <a:rPr b="0" lang="en-US" sz="4400" spc="-1" strike="noStrike">
                <a:solidFill>
                  <a:srgbClr val="000000"/>
                </a:solidFill>
                <a:latin typeface="Times New Roman"/>
              </a:rPr>
              <a:t>How to Build Smart Switches</a:t>
            </a:r>
            <a:endParaRPr b="0" lang="en-US" sz="4400" spc="-1" strike="noStrike">
              <a:solidFill>
                <a:srgbClr val="000000"/>
              </a:solidFill>
              <a:latin typeface="Times New Roman"/>
            </a:endParaRPr>
          </a:p>
        </p:txBody>
      </p:sp>
      <p:sp>
        <p:nvSpPr>
          <p:cNvPr id="77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ogrammable (algorithms will change and evolve)</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able cost</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erformance (Gb/s line rates)</a:t>
            </a:r>
            <a:endParaRPr b="0" lang="en-US" sz="20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FPGAs or Network Processors</a:t>
            </a:r>
            <a:endParaRPr b="0"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ex 2 Pro FPGA (XC2VP7):</a:t>
            </a:r>
            <a:endParaRPr b="0" lang="en-US" sz="2000" spc="-1" strike="noStrike">
              <a:solidFill>
                <a:srgbClr val="000000"/>
              </a:solidFill>
              <a:latin typeface="Times New Roman"/>
            </a:endParaRPr>
          </a:p>
          <a:p>
            <a:pPr lvl="2" marL="108576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2-Gb SERDESs</a:t>
            </a:r>
            <a:endParaRPr b="0" lang="en-US" sz="1800" spc="-1" strike="noStrike">
              <a:solidFill>
                <a:srgbClr val="000000"/>
              </a:solidFill>
              <a:latin typeface="Times New Roman"/>
            </a:endParaRPr>
          </a:p>
          <a:p>
            <a:pPr lvl="3" marL="1519920" indent="-217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support 1000base-SX Ethernet with external transceivers</a:t>
            </a:r>
            <a:endParaRPr b="0" lang="en-US" sz="1600" spc="-1" strike="noStrike">
              <a:solidFill>
                <a:srgbClr val="000000"/>
              </a:solidFill>
              <a:latin typeface="Times New Roman"/>
            </a:endParaRPr>
          </a:p>
          <a:p>
            <a:pPr lvl="2" marL="108576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6-MHz Processor</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00 Logic Cells (4-lut + Flip Flop)</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9 KB RAM</a:t>
            </a: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100 in ½ half of 2003!!!!</a:t>
            </a:r>
            <a:endParaRPr b="0" lang="en-US" sz="1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new algorithms, tools, implementations, and techniqu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F1D69E-1B48-427B-8C26-79D4105AA2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 Why Talk </a:t>
            </a:r>
            <a:br>
              <a:rPr sz="4400"/>
            </a:br>
            <a:r>
              <a:rPr b="0" lang="en-US" sz="4400" spc="-1" strike="noStrike">
                <a:solidFill>
                  <a:srgbClr val="000000"/>
                </a:solidFill>
                <a:latin typeface="Times New Roman"/>
              </a:rPr>
              <a:t>About this Work?</a:t>
            </a:r>
            <a:endParaRPr b="0" lang="en-US" sz="4400" spc="-1" strike="noStrike">
              <a:solidFill>
                <a:srgbClr val="000000"/>
              </a:solidFill>
              <a:latin typeface="Times New Roman"/>
            </a:endParaRPr>
          </a:p>
        </p:txBody>
      </p:sp>
      <p:sp>
        <p:nvSpPr>
          <p:cNvPr id="777"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You bury your head in the sand...</a:t>
            </a:r>
            <a:br>
              <a:rPr sz="2400"/>
            </a:br>
            <a:r>
              <a:rPr b="0" lang="en-US" sz="2400" spc="-1" strike="noStrike">
                <a:solidFill>
                  <a:srgbClr val="000000"/>
                </a:solidFill>
                <a:latin typeface="Times New Roman"/>
              </a:rPr>
              <a:t>  you will get more sand dumped on you”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n Kurod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understand the techniques in order to build defense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t just defend against previous attacks</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tackers can develop these techniques on their own</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chniques aren’t particularly difficult</a:t>
            </a:r>
            <a:endParaRPr b="0" lang="en-US" sz="2000" spc="-1" strike="noStrike">
              <a:solidFill>
                <a:srgbClr val="000000"/>
              </a:solidFill>
              <a:latin typeface="Times New Roman"/>
            </a:endParaRPr>
          </a:p>
          <a:p>
            <a:pPr lvl="2" marL="1119960" indent="-2239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out public discussion, we’d be surprised</a:t>
            </a:r>
            <a:endParaRPr b="0" lang="en-US" sz="18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losing the risks puts everyone on equal footing</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s to understand what problems to avoid</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y does not equal implementation</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ts of work for an attacker to turn a strategy into an attac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5257CE-C7B3-4B57-932F-C962163386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 </a:t>
            </a:r>
            <a:br>
              <a:rPr sz="4400"/>
            </a:br>
            <a:r>
              <a:rPr b="0" lang="en-US" sz="4400" spc="-1" strike="noStrike">
                <a:solidFill>
                  <a:srgbClr val="000000"/>
                </a:solidFill>
                <a:latin typeface="Times New Roman"/>
              </a:rPr>
              <a:t>What Was Sapphire/Slammer</a:t>
            </a:r>
            <a:endParaRPr b="0" lang="en-US" sz="4400" spc="-1" strike="noStrike">
              <a:solidFill>
                <a:srgbClr val="000000"/>
              </a:solidFill>
              <a:latin typeface="Times New Roman"/>
            </a:endParaRPr>
          </a:p>
        </p:txBody>
      </p:sp>
      <p:sp>
        <p:nvSpPr>
          <p:cNvPr id="779" name="PlaceHolder 2"/>
          <p:cNvSpPr>
            <a:spLocks noGrp="1"/>
          </p:cNvSpPr>
          <p:nvPr>
            <p:ph/>
          </p:nvPr>
        </p:nvSpPr>
        <p:spPr>
          <a:xfrm>
            <a:off x="685440" y="1980720"/>
            <a:ext cx="6553080" cy="4496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pphire was a self replicating network program in a single UDP packe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nup from buffer overflow</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API pointer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socket &amp; packe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d PRNG with </a:t>
            </a:r>
            <a:r>
              <a:rPr b="0" lang="en-US" sz="2400" spc="-1" strike="noStrike">
                <a:solidFill>
                  <a:srgbClr val="000000"/>
                </a:solidFill>
                <a:latin typeface="Courier New"/>
              </a:rPr>
              <a:t>getTickCoun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1</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ment PRNG</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 packet to PRNG address</a:t>
            </a: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4 bytes total</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read in 10 minutes</a:t>
            </a:r>
            <a:endParaRPr b="0" lang="en-US" sz="2800" spc="-1" strike="noStrike">
              <a:solidFill>
                <a:srgbClr val="000000"/>
              </a:solidFill>
              <a:latin typeface="Times New Roman"/>
            </a:endParaRPr>
          </a:p>
        </p:txBody>
      </p:sp>
      <p:sp>
        <p:nvSpPr>
          <p:cNvPr id="780" name=""/>
          <p:cNvSpPr/>
          <p:nvPr/>
        </p:nvSpPr>
        <p:spPr>
          <a:xfrm>
            <a:off x="7620120" y="2286000"/>
            <a:ext cx="914400" cy="40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620120" y="228600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er</a:t>
            </a:r>
            <a:endParaRPr b="0" lang="en-US" sz="1800" spc="-1" strike="noStrike">
              <a:solidFill>
                <a:srgbClr val="000000"/>
              </a:solidFill>
              <a:latin typeface="Times New Roman"/>
            </a:endParaRPr>
          </a:p>
        </p:txBody>
      </p:sp>
      <p:sp>
        <p:nvSpPr>
          <p:cNvPr id="782" name=""/>
          <p:cNvSpPr/>
          <p:nvPr/>
        </p:nvSpPr>
        <p:spPr>
          <a:xfrm>
            <a:off x="7620120" y="298620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low</a:t>
            </a:r>
            <a:endParaRPr b="0" lang="en-US" sz="1800" spc="-1" strike="noStrike">
              <a:solidFill>
                <a:srgbClr val="000000"/>
              </a:solidFill>
              <a:latin typeface="Times New Roman"/>
            </a:endParaRPr>
          </a:p>
        </p:txBody>
      </p:sp>
      <p:sp>
        <p:nvSpPr>
          <p:cNvPr id="783" name=""/>
          <p:cNvSpPr/>
          <p:nvPr/>
        </p:nvSpPr>
        <p:spPr>
          <a:xfrm>
            <a:off x="7620120" y="367200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I</a:t>
            </a:r>
            <a:endParaRPr b="0" lang="en-US" sz="1800" spc="-1" strike="noStrike">
              <a:solidFill>
                <a:srgbClr val="000000"/>
              </a:solidFill>
              <a:latin typeface="Times New Roman"/>
            </a:endParaRPr>
          </a:p>
        </p:txBody>
      </p:sp>
      <p:sp>
        <p:nvSpPr>
          <p:cNvPr id="784" name=""/>
          <p:cNvSpPr/>
          <p:nvPr/>
        </p:nvSpPr>
        <p:spPr>
          <a:xfrm>
            <a:off x="7620120" y="435780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cket</a:t>
            </a:r>
            <a:endParaRPr b="0" lang="en-US" sz="1800" spc="-1" strike="noStrike">
              <a:solidFill>
                <a:srgbClr val="000000"/>
              </a:solidFill>
              <a:latin typeface="Times New Roman"/>
            </a:endParaRPr>
          </a:p>
        </p:txBody>
      </p:sp>
      <p:sp>
        <p:nvSpPr>
          <p:cNvPr id="785" name=""/>
          <p:cNvSpPr/>
          <p:nvPr/>
        </p:nvSpPr>
        <p:spPr>
          <a:xfrm>
            <a:off x="7620120" y="481500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d</a:t>
            </a:r>
            <a:endParaRPr b="0" lang="en-US" sz="1800" spc="-1" strike="noStrike">
              <a:solidFill>
                <a:srgbClr val="000000"/>
              </a:solidFill>
              <a:latin typeface="Times New Roman"/>
            </a:endParaRPr>
          </a:p>
        </p:txBody>
      </p:sp>
      <p:sp>
        <p:nvSpPr>
          <p:cNvPr id="786" name=""/>
          <p:cNvSpPr/>
          <p:nvPr/>
        </p:nvSpPr>
        <p:spPr>
          <a:xfrm>
            <a:off x="7620120" y="533412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NG</a:t>
            </a:r>
            <a:endParaRPr b="0" lang="en-US" sz="1800" spc="-1" strike="noStrike">
              <a:solidFill>
                <a:srgbClr val="000000"/>
              </a:solidFill>
              <a:latin typeface="Times New Roman"/>
            </a:endParaRPr>
          </a:p>
        </p:txBody>
      </p:sp>
      <p:sp>
        <p:nvSpPr>
          <p:cNvPr id="787" name=""/>
          <p:cNvSpPr/>
          <p:nvPr/>
        </p:nvSpPr>
        <p:spPr>
          <a:xfrm>
            <a:off x="7620120" y="588168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to</a:t>
            </a:r>
            <a:endParaRPr b="0" lang="en-US" sz="1800" spc="-1" strike="noStrike">
              <a:solidFill>
                <a:srgbClr val="000000"/>
              </a:solidFill>
              <a:latin typeface="Times New Roman"/>
            </a:endParaRPr>
          </a:p>
        </p:txBody>
      </p:sp>
      <p:sp>
        <p:nvSpPr>
          <p:cNvPr id="788" name=""/>
          <p:cNvSpPr/>
          <p:nvPr/>
        </p:nvSpPr>
        <p:spPr>
          <a:xfrm>
            <a:off x="7086600" y="5257800"/>
            <a:ext cx="533520" cy="1066680"/>
          </a:xfrm>
          <a:custGeom>
            <a:avLst/>
            <a:gdLst/>
            <a:ahLst/>
            <a:rect l="l" t="t" r="r" b="b"/>
            <a:pathLst>
              <a:path w="336" h="672">
                <a:moveTo>
                  <a:pt x="336" y="672"/>
                </a:moveTo>
                <a:lnTo>
                  <a:pt x="0" y="672"/>
                </a:lnTo>
                <a:lnTo>
                  <a:pt x="0" y="0"/>
                </a:lnTo>
                <a:lnTo>
                  <a:pt x="336"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A3015D-0689-44AE-B9B6-9FB9C5AA4E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 descr=""/>
          <p:cNvPicPr/>
          <p:nvPr/>
        </p:nvPicPr>
        <p:blipFill>
          <a:blip r:embed="rId1"/>
          <a:stretch/>
        </p:blipFill>
        <p:spPr>
          <a:xfrm>
            <a:off x="3962520" y="2043000"/>
            <a:ext cx="5181480" cy="4052880"/>
          </a:xfrm>
          <a:prstGeom prst="rect">
            <a:avLst/>
          </a:prstGeom>
          <a:ln w="0">
            <a:noFill/>
          </a:ln>
        </p:spPr>
      </p:pic>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a:t>
            </a:r>
            <a:br>
              <a:rPr sz="4400"/>
            </a:br>
            <a:r>
              <a:rPr b="0" lang="en-US" sz="4400" spc="-1" strike="noStrike">
                <a:solidFill>
                  <a:srgbClr val="000000"/>
                </a:solidFill>
                <a:latin typeface="Times New Roman"/>
              </a:rPr>
              <a:t>Slammer is a Scanning Worm</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980720"/>
            <a:ext cx="45720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40 seconds behave like classic </a:t>
            </a:r>
            <a:br>
              <a:rPr sz="2400"/>
            </a:br>
            <a:r>
              <a:rPr b="0" lang="en-US" sz="2400" spc="-1" strike="noStrike">
                <a:solidFill>
                  <a:srgbClr val="000000"/>
                </a:solidFill>
                <a:latin typeface="Times New Roman"/>
              </a:rPr>
              <a:t>scanning wor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ubling time </a:t>
            </a:r>
            <a:br>
              <a:rPr sz="2000"/>
            </a:br>
            <a:r>
              <a:rPr b="0" lang="en-US" sz="2000" spc="-1" strike="noStrike">
                <a:solidFill>
                  <a:srgbClr val="000000"/>
                </a:solidFill>
                <a:latin typeface="Times New Roman"/>
              </a:rPr>
              <a:t>of ~8.5 secon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Red’s doubling</a:t>
            </a:r>
            <a:br>
              <a:rPr sz="2000"/>
            </a:br>
            <a:r>
              <a:rPr b="0" lang="en-US" sz="2000" spc="-1" strike="noStrike">
                <a:solidFill>
                  <a:srgbClr val="000000"/>
                </a:solidFill>
                <a:latin typeface="Times New Roman"/>
              </a:rPr>
              <a:t>time: ~40 minut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ches Random</a:t>
            </a:r>
            <a:br>
              <a:rPr sz="2400"/>
            </a:br>
            <a:r>
              <a:rPr b="0" lang="en-US" sz="2400" spc="-1" strike="noStrike">
                <a:solidFill>
                  <a:srgbClr val="000000"/>
                </a:solidFill>
                <a:latin typeface="Times New Roman"/>
              </a:rPr>
              <a:t>-Constant-Spread </a:t>
            </a:r>
            <a:br>
              <a:rPr sz="2400"/>
            </a:br>
            <a:r>
              <a:rPr b="0" lang="en-US" sz="2400" spc="-1" strike="noStrike">
                <a:solidFill>
                  <a:srgbClr val="000000"/>
                </a:solidFill>
                <a:latin typeface="Times New Roman"/>
              </a:rPr>
              <a:t>(RCS) mod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gn of hitlisting </a:t>
            </a:r>
            <a:br>
              <a:rPr sz="2000"/>
            </a:br>
            <a:r>
              <a:rPr b="0" lang="en-US" sz="2000" spc="-1" strike="noStrike">
                <a:solidFill>
                  <a:srgbClr val="000000"/>
                </a:solidFill>
                <a:latin typeface="Times New Roman"/>
              </a:rPr>
              <a:t>or other acceler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696F01-5C52-4194-A212-B6681A5A25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 Is Slammer’s Speed an Isolated Case?</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single packet UDP scanner, unless deliberately limited or broken, will scan like Slamm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vulnerabilities can be scanned with UDP packets, infected through a TCP connection (eg Bind 8)</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reasonably small TCP worm can spread like Slamm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s to construct SYNs at line rate, receive ACKs in a separate threa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Rhetorical Ques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hard is it to construct a bandwidth-limited TCP scann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respond to upstream congestion when transmitting infection attempt and worm bod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happens when there is public sample co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679751-302D-4574-920A-41D9A4C50C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 </a:t>
            </a:r>
            <a:br>
              <a:rPr sz="4400"/>
            </a:br>
            <a:r>
              <a:rPr b="0" lang="en-US" sz="4400" spc="-1" strike="noStrike">
                <a:solidFill>
                  <a:srgbClr val="000000"/>
                </a:solidFill>
                <a:latin typeface="Times New Roman"/>
              </a:rPr>
              <a:t>Why the 0 in 0wn?</a:t>
            </a:r>
            <a:endParaRPr b="0" lang="en-US" sz="4400" spc="-1" strike="noStrike">
              <a:solidFill>
                <a:srgbClr val="000000"/>
              </a:solidFill>
              <a:latin typeface="Times New Roman"/>
            </a:endParaRPr>
          </a:p>
        </p:txBody>
      </p:sp>
      <p:sp>
        <p:nvSpPr>
          <p:cNvPr id="795" name="PlaceHolder 2"/>
          <p:cNvSpPr>
            <a:spLocks noGrp="1"/>
          </p:cNvSpPr>
          <p:nvPr>
            <p:ph/>
          </p:nvPr>
        </p:nvSpPr>
        <p:spPr>
          <a:xfrm>
            <a:off x="685440" y="1980720"/>
            <a:ext cx="335268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L33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ual substitution “cipher” in the hacker commun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d by early chat room/hacker community to avoid stupid keyword filt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 Copyright 2000 by Fred Gallagher and Rodney Cast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megatokyo.com</a:t>
            </a:r>
            <a:endParaRPr b="0" lang="en-US" sz="2000" spc="-1" strike="noStrike">
              <a:solidFill>
                <a:srgbClr val="000000"/>
              </a:solidFill>
              <a:latin typeface="Times New Roman"/>
            </a:endParaRPr>
          </a:p>
        </p:txBody>
      </p:sp>
      <p:pic>
        <p:nvPicPr>
          <p:cNvPr id="796" name="L33Tspeak" descr=""/>
          <p:cNvPicPr/>
          <p:nvPr/>
        </p:nvPicPr>
        <p:blipFill>
          <a:blip r:embed="rId1"/>
          <a:stretch/>
        </p:blipFill>
        <p:spPr>
          <a:xfrm>
            <a:off x="4191120" y="1981080"/>
            <a:ext cx="4647960" cy="4648320"/>
          </a:xfrm>
          <a:prstGeom prst="rect">
            <a:avLst/>
          </a:prstGeom>
          <a:ln w="0">
            <a:noFill/>
          </a:ln>
        </p:spPr>
      </p:pic>
      <p:sp>
        <p:nvSpPr>
          <p:cNvPr id="4" name="PlaceHolder 3"/>
          <p:cNvSpPr>
            <a:spLocks noGrp="1"/>
          </p:cNvSpPr>
          <p:nvPr>
            <p:ph type="sldNum" idx="3"/>
          </p:nvPr>
        </p:nvSpPr>
        <p:spPr/>
        <p:txBody>
          <a:bodyPr/>
          <a:p>
            <a:fld id="{B8C4763F-E488-4E64-A918-02F8EB55BE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648320" y="2411280"/>
            <a:ext cx="4495680" cy="3684600"/>
          </a:xfrm>
          <a:prstGeom prst="rect">
            <a:avLst/>
          </a:prstGeom>
          <a:ln w="0">
            <a:noFill/>
          </a:ln>
        </p:spPr>
      </p:pic>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Fast </a:t>
            </a:r>
            <a:br>
              <a:rPr sz="4400"/>
            </a:br>
            <a:r>
              <a:rPr b="0" lang="en-US" sz="4400" spc="-1" strike="noStrike">
                <a:solidFill>
                  <a:srgbClr val="000000"/>
                </a:solidFill>
                <a:latin typeface="Times New Roman"/>
              </a:rPr>
              <a:t>was Slammer?</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0720"/>
            <a:ext cx="4419720" cy="44960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cted ~75,000 machines </a:t>
            </a:r>
            <a:br>
              <a:rPr sz="2800"/>
            </a:br>
            <a:r>
              <a:rPr b="0" lang="en-US" sz="2800" spc="-1" strike="noStrike">
                <a:solidFill>
                  <a:srgbClr val="000000"/>
                </a:solidFill>
                <a:latin typeface="Times New Roman"/>
              </a:rPr>
              <a:t>in 10 minut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scanning rate in ~3 minute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55 Million IPs/s</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doubling rate was about every 8.5 second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saturations </a:t>
            </a:r>
            <a:br>
              <a:rPr sz="2400"/>
            </a:br>
            <a:r>
              <a:rPr b="0" lang="en-US" sz="2400" spc="-1" strike="noStrike">
                <a:solidFill>
                  <a:srgbClr val="000000"/>
                </a:solidFill>
                <a:latin typeface="Times New Roman"/>
              </a:rPr>
              <a:t>occur in &lt;1 minu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90CA50-6150-4128-AA13-0BAA74FD3E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Computer Worm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 replicating network progra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it vulnerabilities to infect remote machin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 machines continue to propagate the inf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main sta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ct new targ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 to infect new targ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ate the code on the victim </a:t>
            </a:r>
            <a:br>
              <a:rPr sz="2000"/>
            </a:br>
            <a:r>
              <a:rPr b="0" lang="en-US" sz="2000" spc="-1" strike="noStrike">
                <a:solidFill>
                  <a:srgbClr val="000000"/>
                </a:solidFill>
                <a:latin typeface="Times New Roman"/>
              </a:rPr>
              <a:t>machi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alk focuses on </a:t>
            </a:r>
            <a:br>
              <a:rPr sz="2400"/>
            </a:br>
            <a:r>
              <a:rPr b="0" lang="en-US" sz="2400" spc="-1" strike="noStrike">
                <a:solidFill>
                  <a:srgbClr val="000000"/>
                </a:solidFill>
                <a:latin typeface="Times New Roman"/>
              </a:rPr>
              <a:t>autonomous wor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human intervention required</a:t>
            </a:r>
            <a:endParaRPr b="0" lang="en-US" sz="2000" spc="-1" strike="noStrike">
              <a:solidFill>
                <a:srgbClr val="000000"/>
              </a:solidFill>
              <a:latin typeface="Times New Roman"/>
            </a:endParaRPr>
          </a:p>
        </p:txBody>
      </p:sp>
      <p:grpSp>
        <p:nvGrpSpPr>
          <p:cNvPr id="109" name=""/>
          <p:cNvGrpSpPr/>
          <p:nvPr/>
        </p:nvGrpSpPr>
        <p:grpSpPr>
          <a:xfrm>
            <a:off x="8381880" y="3352680"/>
            <a:ext cx="609480" cy="685440"/>
            <a:chOff x="8381880" y="3352680"/>
            <a:chExt cx="609480" cy="685440"/>
          </a:xfrm>
        </p:grpSpPr>
        <p:sp>
          <p:nvSpPr>
            <p:cNvPr id="110" name=""/>
            <p:cNvSpPr/>
            <p:nvPr/>
          </p:nvSpPr>
          <p:spPr>
            <a:xfrm>
              <a:off x="8458200" y="3352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534160" y="342900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8381880" y="38854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5562720" y="2209680"/>
            <a:ext cx="3276360" cy="4114440"/>
            <a:chOff x="5562720" y="2209680"/>
            <a:chExt cx="3276360" cy="4114440"/>
          </a:xfrm>
        </p:grpSpPr>
        <p:grpSp>
          <p:nvGrpSpPr>
            <p:cNvPr id="114" name=""/>
            <p:cNvGrpSpPr/>
            <p:nvPr/>
          </p:nvGrpSpPr>
          <p:grpSpPr>
            <a:xfrm>
              <a:off x="5562720" y="3429000"/>
              <a:ext cx="609480" cy="685440"/>
              <a:chOff x="5562720" y="3429000"/>
              <a:chExt cx="609480" cy="685440"/>
            </a:xfrm>
          </p:grpSpPr>
          <p:sp>
            <p:nvSpPr>
              <p:cNvPr id="115" name=""/>
              <p:cNvSpPr/>
              <p:nvPr/>
            </p:nvSpPr>
            <p:spPr>
              <a:xfrm>
                <a:off x="5639040" y="3429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350532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5562720" y="396180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7010280" y="2209680"/>
              <a:ext cx="609480" cy="685440"/>
              <a:chOff x="7010280" y="2209680"/>
              <a:chExt cx="609480" cy="685440"/>
            </a:xfrm>
          </p:grpSpPr>
          <p:sp>
            <p:nvSpPr>
              <p:cNvPr id="119" name=""/>
              <p:cNvSpPr/>
              <p:nvPr/>
            </p:nvSpPr>
            <p:spPr>
              <a:xfrm>
                <a:off x="7086600" y="2209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62560" y="228600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7010280" y="27424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8001000" y="2209680"/>
              <a:ext cx="609480" cy="685440"/>
              <a:chOff x="8001000" y="2209680"/>
              <a:chExt cx="609480" cy="685440"/>
            </a:xfrm>
          </p:grpSpPr>
          <p:sp>
            <p:nvSpPr>
              <p:cNvPr id="123" name=""/>
              <p:cNvSpPr/>
              <p:nvPr/>
            </p:nvSpPr>
            <p:spPr>
              <a:xfrm>
                <a:off x="8077320" y="2209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53280" y="228600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8001000" y="27424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8229600" y="4495680"/>
              <a:ext cx="609480" cy="685440"/>
              <a:chOff x="8229600" y="4495680"/>
              <a:chExt cx="609480" cy="685440"/>
            </a:xfrm>
          </p:grpSpPr>
          <p:sp>
            <p:nvSpPr>
              <p:cNvPr id="127" name=""/>
              <p:cNvSpPr/>
              <p:nvPr/>
            </p:nvSpPr>
            <p:spPr>
              <a:xfrm>
                <a:off x="8305920" y="4495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381880" y="457200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8229600" y="50284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5562720" y="4876920"/>
              <a:ext cx="609480" cy="685440"/>
              <a:chOff x="5562720" y="4876920"/>
              <a:chExt cx="609480" cy="685440"/>
            </a:xfrm>
          </p:grpSpPr>
          <p:sp>
            <p:nvSpPr>
              <p:cNvPr id="131" name=""/>
              <p:cNvSpPr/>
              <p:nvPr/>
            </p:nvSpPr>
            <p:spPr>
              <a:xfrm>
                <a:off x="5639040" y="4876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715000" y="495324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5562720" y="540972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6705720" y="5638680"/>
              <a:ext cx="609480" cy="685440"/>
              <a:chOff x="6705720" y="5638680"/>
              <a:chExt cx="609480" cy="685440"/>
            </a:xfrm>
          </p:grpSpPr>
          <p:sp>
            <p:nvSpPr>
              <p:cNvPr id="135" name=""/>
              <p:cNvSpPr/>
              <p:nvPr/>
            </p:nvSpPr>
            <p:spPr>
              <a:xfrm>
                <a:off x="6782040" y="5638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0" y="571500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6705720" y="61714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7848720" y="5334120"/>
              <a:ext cx="609480" cy="685440"/>
              <a:chOff x="7848720" y="5334120"/>
              <a:chExt cx="609480" cy="685440"/>
            </a:xfrm>
          </p:grpSpPr>
          <p:sp>
            <p:nvSpPr>
              <p:cNvPr id="139" name=""/>
              <p:cNvSpPr/>
              <p:nvPr/>
            </p:nvSpPr>
            <p:spPr>
              <a:xfrm>
                <a:off x="7925040" y="5334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001000" y="5410440"/>
                <a:ext cx="304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7848720" y="586692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Cloud"/>
            <p:cNvSpPr/>
            <p:nvPr/>
          </p:nvSpPr>
          <p:spPr>
            <a:xfrm>
              <a:off x="6400800" y="3352680"/>
              <a:ext cx="1600200" cy="1905120"/>
            </a:xfrm>
            <a:prstGeom prst="pie">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143" name=""/>
            <p:cNvSpPr/>
            <p:nvPr/>
          </p:nvSpPr>
          <p:spPr>
            <a:xfrm>
              <a:off x="7238880" y="2895480"/>
              <a:ext cx="0" cy="609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7772400" y="2895480"/>
              <a:ext cx="380880" cy="6098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8001000" y="3657600"/>
              <a:ext cx="457200" cy="228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7924320" y="4571640"/>
              <a:ext cx="381240" cy="1522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flipV="1">
              <a:off x="7695720" y="4952520"/>
              <a:ext cx="304920" cy="381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7010280" y="5181480"/>
              <a:ext cx="76320" cy="457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6095880" y="4800240"/>
              <a:ext cx="381240" cy="228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095880" y="3657600"/>
              <a:ext cx="457200" cy="763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1" name=""/>
          <p:cNvGrpSpPr/>
          <p:nvPr/>
        </p:nvGrpSpPr>
        <p:grpSpPr>
          <a:xfrm>
            <a:off x="7010280" y="2209680"/>
            <a:ext cx="609840" cy="685440"/>
            <a:chOff x="7010280" y="2209680"/>
            <a:chExt cx="609840" cy="685440"/>
          </a:xfrm>
        </p:grpSpPr>
        <p:sp>
          <p:nvSpPr>
            <p:cNvPr id="152" name=""/>
            <p:cNvSpPr/>
            <p:nvPr/>
          </p:nvSpPr>
          <p:spPr>
            <a:xfrm>
              <a:off x="7086600" y="2209680"/>
              <a:ext cx="45720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62920" y="2286000"/>
              <a:ext cx="30456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010280" y="2742480"/>
              <a:ext cx="609840" cy="152280"/>
            </a:xfrm>
            <a:custGeom>
              <a:avLst/>
              <a:gdLst>
                <a:gd name="textAreaLeft" fmla="*/ 101160 w 609840"/>
                <a:gd name="textAreaRight" fmla="*/ 508680 w 60984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6858000" y="2971800"/>
            <a:ext cx="380880" cy="1143000"/>
            <a:chOff x="6858000" y="2971800"/>
            <a:chExt cx="380880" cy="1143000"/>
          </a:xfrm>
        </p:grpSpPr>
        <p:sp>
          <p:nvSpPr>
            <p:cNvPr id="156" name=""/>
            <p:cNvSpPr/>
            <p:nvPr/>
          </p:nvSpPr>
          <p:spPr>
            <a:xfrm>
              <a:off x="7238880" y="2971800"/>
              <a:ext cx="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6858000" y="3581280"/>
              <a:ext cx="38088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6171840" y="2971800"/>
            <a:ext cx="1067040" cy="1143000"/>
            <a:chOff x="6171840" y="2971800"/>
            <a:chExt cx="1067040" cy="1143000"/>
          </a:xfrm>
        </p:grpSpPr>
        <p:sp>
          <p:nvSpPr>
            <p:cNvPr id="159" name=""/>
            <p:cNvSpPr/>
            <p:nvPr/>
          </p:nvSpPr>
          <p:spPr>
            <a:xfrm>
              <a:off x="7238880" y="2971800"/>
              <a:ext cx="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171840" y="3657600"/>
              <a:ext cx="10666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6019920" y="2971800"/>
            <a:ext cx="1218960" cy="1143000"/>
            <a:chOff x="6019920" y="2971800"/>
            <a:chExt cx="1218960" cy="1143000"/>
          </a:xfrm>
        </p:grpSpPr>
        <p:grpSp>
          <p:nvGrpSpPr>
            <p:cNvPr id="162" name=""/>
            <p:cNvGrpSpPr/>
            <p:nvPr/>
          </p:nvGrpSpPr>
          <p:grpSpPr>
            <a:xfrm>
              <a:off x="6171840" y="2971800"/>
              <a:ext cx="1067040" cy="1143000"/>
              <a:chOff x="6171840" y="2971800"/>
              <a:chExt cx="1067040" cy="1143000"/>
            </a:xfrm>
          </p:grpSpPr>
          <p:sp>
            <p:nvSpPr>
              <p:cNvPr id="163" name=""/>
              <p:cNvSpPr/>
              <p:nvPr/>
            </p:nvSpPr>
            <p:spPr>
              <a:xfrm>
                <a:off x="7238880" y="2971800"/>
                <a:ext cx="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flipV="1">
                <a:off x="6171840" y="3657600"/>
                <a:ext cx="10666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flipH="1">
              <a:off x="6019920" y="3352680"/>
              <a:ext cx="304560" cy="38088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5562720" y="3429000"/>
            <a:ext cx="609480" cy="685440"/>
            <a:chOff x="5562720" y="3429000"/>
            <a:chExt cx="609480" cy="685440"/>
          </a:xfrm>
        </p:grpSpPr>
        <p:sp>
          <p:nvSpPr>
            <p:cNvPr id="167" name=""/>
            <p:cNvSpPr/>
            <p:nvPr/>
          </p:nvSpPr>
          <p:spPr>
            <a:xfrm>
              <a:off x="5638680" y="3429000"/>
              <a:ext cx="4568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715000" y="3505320"/>
              <a:ext cx="304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562720" y="396180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6705720" y="3352680"/>
            <a:ext cx="2286000" cy="2971440"/>
            <a:chOff x="6705720" y="3352680"/>
            <a:chExt cx="2286000" cy="2971440"/>
          </a:xfrm>
        </p:grpSpPr>
        <p:grpSp>
          <p:nvGrpSpPr>
            <p:cNvPr id="171" name=""/>
            <p:cNvGrpSpPr/>
            <p:nvPr/>
          </p:nvGrpSpPr>
          <p:grpSpPr>
            <a:xfrm>
              <a:off x="6705720" y="5638680"/>
              <a:ext cx="609480" cy="685440"/>
              <a:chOff x="6705720" y="5638680"/>
              <a:chExt cx="609480" cy="685440"/>
            </a:xfrm>
          </p:grpSpPr>
          <p:sp>
            <p:nvSpPr>
              <p:cNvPr id="172" name=""/>
              <p:cNvSpPr/>
              <p:nvPr/>
            </p:nvSpPr>
            <p:spPr>
              <a:xfrm>
                <a:off x="6781680" y="5638680"/>
                <a:ext cx="4568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858000" y="5715000"/>
                <a:ext cx="304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6705720" y="61714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8381880" y="3352680"/>
              <a:ext cx="609840" cy="685440"/>
              <a:chOff x="8381880" y="3352680"/>
              <a:chExt cx="609840" cy="685440"/>
            </a:xfrm>
          </p:grpSpPr>
          <p:sp>
            <p:nvSpPr>
              <p:cNvPr id="176" name=""/>
              <p:cNvSpPr/>
              <p:nvPr/>
            </p:nvSpPr>
            <p:spPr>
              <a:xfrm>
                <a:off x="8458200" y="3352680"/>
                <a:ext cx="45720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534520" y="3429000"/>
                <a:ext cx="30456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8381880" y="3885480"/>
                <a:ext cx="609840" cy="152280"/>
              </a:xfrm>
              <a:custGeom>
                <a:avLst/>
                <a:gdLst>
                  <a:gd name="textAreaLeft" fmla="*/ 101160 w 609840"/>
                  <a:gd name="textAreaRight" fmla="*/ 508680 w 60984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9" name=""/>
          <p:cNvGrpSpPr/>
          <p:nvPr/>
        </p:nvGrpSpPr>
        <p:grpSpPr>
          <a:xfrm>
            <a:off x="5562720" y="2209680"/>
            <a:ext cx="3276360" cy="3809880"/>
            <a:chOff x="5562720" y="2209680"/>
            <a:chExt cx="3276360" cy="3809880"/>
          </a:xfrm>
        </p:grpSpPr>
        <p:grpSp>
          <p:nvGrpSpPr>
            <p:cNvPr id="180" name=""/>
            <p:cNvGrpSpPr/>
            <p:nvPr/>
          </p:nvGrpSpPr>
          <p:grpSpPr>
            <a:xfrm>
              <a:off x="5562720" y="4876920"/>
              <a:ext cx="609480" cy="685440"/>
              <a:chOff x="5562720" y="4876920"/>
              <a:chExt cx="609480" cy="685440"/>
            </a:xfrm>
          </p:grpSpPr>
          <p:sp>
            <p:nvSpPr>
              <p:cNvPr id="181" name=""/>
              <p:cNvSpPr/>
              <p:nvPr/>
            </p:nvSpPr>
            <p:spPr>
              <a:xfrm>
                <a:off x="5638680" y="4876920"/>
                <a:ext cx="4568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715000" y="4953240"/>
                <a:ext cx="304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5562720" y="540972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7848720" y="5334120"/>
              <a:ext cx="609480" cy="685440"/>
              <a:chOff x="7848720" y="5334120"/>
              <a:chExt cx="609480" cy="685440"/>
            </a:xfrm>
          </p:grpSpPr>
          <p:sp>
            <p:nvSpPr>
              <p:cNvPr id="185" name=""/>
              <p:cNvSpPr/>
              <p:nvPr/>
            </p:nvSpPr>
            <p:spPr>
              <a:xfrm>
                <a:off x="7924680" y="5334120"/>
                <a:ext cx="4568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001000" y="5410440"/>
                <a:ext cx="304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7848720" y="586692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8229600" y="4495680"/>
              <a:ext cx="609480" cy="685440"/>
              <a:chOff x="8229600" y="4495680"/>
              <a:chExt cx="609480" cy="685440"/>
            </a:xfrm>
          </p:grpSpPr>
          <p:sp>
            <p:nvSpPr>
              <p:cNvPr id="189" name=""/>
              <p:cNvSpPr/>
              <p:nvPr/>
            </p:nvSpPr>
            <p:spPr>
              <a:xfrm>
                <a:off x="8305560" y="4495680"/>
                <a:ext cx="4568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81880" y="4572000"/>
                <a:ext cx="304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8229600" y="50284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8001000" y="2209680"/>
              <a:ext cx="609480" cy="685440"/>
              <a:chOff x="8001000" y="2209680"/>
              <a:chExt cx="609480" cy="685440"/>
            </a:xfrm>
          </p:grpSpPr>
          <p:sp>
            <p:nvSpPr>
              <p:cNvPr id="193" name=""/>
              <p:cNvSpPr/>
              <p:nvPr/>
            </p:nvSpPr>
            <p:spPr>
              <a:xfrm>
                <a:off x="8076960" y="2209680"/>
                <a:ext cx="4568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153280" y="2286000"/>
                <a:ext cx="3042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8001000" y="2742480"/>
                <a:ext cx="609480" cy="152280"/>
              </a:xfrm>
              <a:custGeom>
                <a:avLst/>
                <a:gdLst>
                  <a:gd name="textAreaLeft" fmla="*/ 101160 w 609480"/>
                  <a:gd name="textAreaRight" fmla="*/ 508320 w 609480"/>
                  <a:gd name="textAreaTop" fmla="*/ 25200 h 152280"/>
                  <a:gd name="textAreaBottom" fmla="*/ 127080 h 152280"/>
                </a:gdLst>
                <a:ahLst/>
                <a:rect l="textAreaLeft" t="textAreaTop" r="textAreaRight" b="textAreaBottom"/>
                <a:pathLst>
                  <a:path w="21600" h="21600">
                    <a:moveTo>
                      <a:pt x="0" y="0"/>
                    </a:moveTo>
                    <a:lnTo>
                      <a:pt x="21600" y="0"/>
                    </a:lnTo>
                    <a:lnTo>
                      <a:pt x="18282" y="21600"/>
                    </a:lnTo>
                    <a:lnTo>
                      <a:pt x="331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F8FEF616-27BF-43B3-9EC7-87352F53F8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orry About Worms?</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can be fas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Red required ~13 hours to spread worldwid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Moore’s analysis and “How to 0wn the Interne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techniques can be even faster</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Warhol Worm” </a:t>
            </a:r>
            <a:r>
              <a:rPr b="0" lang="en-US" sz="1800" spc="-1" strike="noStrike">
                <a:solidFill>
                  <a:srgbClr val="000000"/>
                </a:solidFill>
                <a:latin typeface="Symbol"/>
                <a:ea typeface="Symbol"/>
              </a:rPr>
              <a:t></a:t>
            </a:r>
            <a:r>
              <a:rPr b="0" lang="en-US" sz="1800" spc="-1" strike="noStrike">
                <a:solidFill>
                  <a:srgbClr val="000000"/>
                </a:solidFill>
                <a:latin typeface="Times New Roman"/>
              </a:rPr>
              <a:t> 15 minute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pphire </a:t>
            </a:r>
            <a:r>
              <a:rPr b="0" lang="en-US" sz="1800" spc="-1" strike="noStrike">
                <a:solidFill>
                  <a:srgbClr val="000000"/>
                </a:solidFill>
                <a:latin typeface="Symbol"/>
                <a:ea typeface="Symbol"/>
              </a:rPr>
              <a:t></a:t>
            </a:r>
            <a:r>
              <a:rPr b="0" lang="en-US" sz="1800" spc="-1" strike="noStrike">
                <a:solidFill>
                  <a:srgbClr val="000000"/>
                </a:solidFill>
                <a:latin typeface="Times New Roman"/>
              </a:rPr>
              <a:t> 10 minute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er than human reac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can have highly</a:t>
            </a:r>
            <a:br>
              <a:rPr sz="2400"/>
            </a:br>
            <a:r>
              <a:rPr b="0" lang="en-US" sz="2400" spc="-1" strike="noStrike">
                <a:solidFill>
                  <a:srgbClr val="000000"/>
                </a:solidFill>
                <a:latin typeface="Times New Roman"/>
              </a:rPr>
              <a:t>malicious payload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Denial of Service Attack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 scale espion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rruption, manipul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S reflashing</a:t>
            </a:r>
            <a:endParaRPr b="0" lang="en-US" sz="2000" spc="-1" strike="noStrike">
              <a:solidFill>
                <a:srgbClr val="000000"/>
              </a:solidFill>
              <a:latin typeface="Times New Roman"/>
            </a:endParaRPr>
          </a:p>
        </p:txBody>
      </p:sp>
      <p:pic>
        <p:nvPicPr>
          <p:cNvPr id="198" name="caida-codered" descr=""/>
          <p:cNvPicPr/>
          <p:nvPr/>
        </p:nvPicPr>
        <p:blipFill>
          <a:blip r:embed="rId1"/>
          <a:stretch/>
        </p:blipFill>
        <p:spPr>
          <a:xfrm>
            <a:off x="5410080" y="3089160"/>
            <a:ext cx="3733920" cy="3159360"/>
          </a:xfrm>
          <a:prstGeom prst="rect">
            <a:avLst/>
          </a:prstGeom>
          <a:ln w="0">
            <a:noFill/>
          </a:ln>
        </p:spPr>
      </p:pic>
      <p:sp>
        <p:nvSpPr>
          <p:cNvPr id="199" name=""/>
          <p:cNvSpPr/>
          <p:nvPr/>
        </p:nvSpPr>
        <p:spPr>
          <a:xfrm>
            <a:off x="5428080" y="6172200"/>
            <a:ext cx="357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ph from David Moore's analysis (caida.org)</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2792BB-D201-47EA-8A68-0AF103E9A3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Major Worms</a:t>
            </a:r>
            <a:endParaRPr b="0" lang="en-US" sz="4400" spc="-1" strike="noStrike">
              <a:solidFill>
                <a:srgbClr val="000000"/>
              </a:solidFill>
              <a:latin typeface="Times New Roman"/>
            </a:endParaRPr>
          </a:p>
        </p:txBody>
      </p:sp>
      <p:graphicFrame>
        <p:nvGraphicFramePr>
          <p:cNvPr id="201" name=""/>
          <p:cNvGraphicFramePr/>
          <p:nvPr/>
        </p:nvGraphicFramePr>
        <p:xfrm>
          <a:off x="152280" y="2128680"/>
          <a:ext cx="8842320" cy="4023000"/>
        </p:xfrm>
        <a:graphic>
          <a:graphicData uri="http://schemas.openxmlformats.org/drawingml/2006/table">
            <a:tbl>
              <a:tblPr/>
              <a:tblGrid>
                <a:gridCol w="1474920"/>
                <a:gridCol w="893880"/>
                <a:gridCol w="1461960"/>
                <a:gridCol w="1461960"/>
                <a:gridCol w="35496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ateg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ctim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Not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ri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ologic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major autonomous worm.  Attacked multiple vulnerabiliti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R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recent "fast" wor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Clea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released Anti-Code-Red worm.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md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ing</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l subnet scanning.  Effective mix of techniqu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p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1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eased 10 days after vulnerability reveal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app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d Scalper Cod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75,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read worldwide in 10 minu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9120208-2308-425A-AE32-D4953B5B2C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Attackers Like Worms?</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are useful attacker too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attack an entire vulnerable population at o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harder to trace than conventional attack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are easy to wri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agation routines can be generic, enabling code reuse (Slappe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op in an exploit and releas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load is independent of propag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record: 10 days from disclosure to worm (Scalp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easily be reduced to 1 d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rt attacker can produce a “0 day” worm</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worm which attacks an otherwise unknown vulnerabilit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2D71C06-8590-4A18-BB02-55A97623A9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4T05:20:04Z</dcterms:created>
  <dc:creator>Nicholas C Weaver</dc:creator>
  <dc:description/>
  <dc:language>en-US</dc:language>
  <cp:lastModifiedBy>EECS</cp:lastModifiedBy>
  <dcterms:modified xsi:type="dcterms:W3CDTF">2003-10-03T18:36:18Z</dcterms:modified>
  <cp:revision>1237</cp:revision>
  <dc:subject/>
  <dc:title>How many ways to 0wn the Internet? Towards Viable Worm Defenses</dc:title>
</cp:coreProperties>
</file>